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6FBB-6920-4D3D-9A7E-C5C5128F640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lokace OPŽP 2007-13 byla 4 643 mil. EUR. Pokles alokace OPŽP II na 57%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CE61-2B96-4196-92E2-7B40CB7944A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B85B-A99A-4A6E-8CB6-8BB8FB0A9F0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87BF-87C1-49B0-B57C-659C76970E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rtál ISKP14+ je určen pro žadatele/příjemce pro zadávání žádostí o podporu projektu a správu projektů po celou dobu jejich životního cyklu. Žádosti o podporu projektu bude možné zadávat až po vyhlášení výzev operačních programů pro programové období 2014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nformace pro žadatele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stup (včetně registrace) do Aplikace MS2014+ bude umožněn po finalizaci jednotlivých operačních programů v rámci Dohody o partnerství mezi Českou republikou a Evropskou unií. Následně po vyhlášení výzev bude možné podávat žádosti o podpo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6A37-71B2-4222-A419-0DA06E6CB7B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B743-EABA-48CE-AE1C-D1788729DF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2CE1-D4D1-424D-AB98-BC8134B59A1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387C-F51D-4066-A96F-370DE84818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4345-80E9-45D6-98FA-0556A7B8A14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8ED5-1A51-4EE5-BE89-76032A85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85FA-6841-4ABC-8A66-E7E772EA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7705-293C-4824-A943-A5B534B9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6A3-3F1F-425F-8A9B-42E8B305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6337-50AA-4196-87FB-FC8C4EE9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D365-EE23-4F80-B3A7-F9DC3B68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7E0B-B463-4F0B-9602-108607CF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4EFA-16EA-487B-8647-DD58F5D5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EA81-E41B-4AC6-BAD0-ECEDBE5C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F6BA-8BF6-493A-B38B-FA501C7D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BB0D-D9F3-4575-8035-CE418403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2545-3758-4C0D-A910-325D78BD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9F31-430E-4B00-9987-A4EE8D91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274C-D0A0-4901-B16F-38138133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1113-8AF4-4307-83B8-A7CF7CDF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FBF3-3CC4-46DE-AE66-4F478C51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ED9F-386C-47DD-B9A9-3B1CC67E0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5D1-F8EF-4CDE-9B45-77F4D570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288-4362-4E36-93B9-C5E3F301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2440-365D-4DD0-B629-59107DF51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E5E-A773-4A74-860F-79E37D06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5B52-912F-47ED-8299-85F874DE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4797-7EA6-4C59-A751-1E5C688B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AC3-C3A3-4AA8-8EFD-867CB3CD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34EE-E54B-48C3-9853-C3A41A3DAD99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Banner_FS_ERDF_RGB_3_horizont"/>
          <p:cNvPicPr/>
          <p:nvPr/>
        </p:nvPicPr>
        <p:blipFill>
          <a:blip r:embed="rId2"/>
          <a:stretch/>
        </p:blipFill>
        <p:spPr>
          <a:xfrm>
            <a:off x="395280" y="1490760"/>
            <a:ext cx="8353440" cy="930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1692360" y="573408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Ministerstvo životního prostředí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12" descr="Mozaika_prezentace.jpg"/>
          <p:cNvPicPr/>
          <p:nvPr/>
        </p:nvPicPr>
        <p:blipFill>
          <a:blip r:embed="rId3"/>
          <a:srcRect l="0" t="0" r="13223" b="0"/>
          <a:stretch/>
        </p:blipFill>
        <p:spPr>
          <a:xfrm>
            <a:off x="0" y="0"/>
            <a:ext cx="7929720" cy="1216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9888-AEF0-4C5E-8656-8F0039A1869B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pzp.cz/obecne-pokyny/dokumenty" TargetMode="External"/><Relationship Id="rId2" Type="http://schemas.openxmlformats.org/officeDocument/2006/relationships/hyperlink" Target="http://www.opzp.cz/vyzvy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4000" y="443664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5084640"/>
            <a:ext cx="3527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Martin Kub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Náměstek SFŽP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08000" y="2565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 Unicode MS"/>
              </a:rPr>
              <a:t>Operační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 Unicode MS"/>
              </a:rPr>
              <a:t>Životní prostředí 2014 -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3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341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1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Prevence vzniku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podporování projektů předcházení vzniku komunálních odpadů a realizace nebo modernizace technologií, jejichž výstupem bude menší množství produkovaných odpadů na jednotku výrobku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2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Zvýšit podíl materiálového a energetického využití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výstavba a modernizace zařízení pro sběr, třídění, úpravu, materiálové a energetické využití odpadů a nakládání s nebezpečnými odpady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3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Rekultivovat staré skládk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rekultivace starých skládek technicky nezabezpečených, které byly provozovány před účinností zákona č. 238/1991 Sb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3662-B8D9-42C9-BA4E-AE8CE095A3F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3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3.4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Dokončit inventarizaci a odstranit ekologické zátěž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75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 Unicode MS"/>
              </a:rPr>
              <a:t>Realizace inventarizace kontaminovaných lokalit, realizace doprůzkumů a zpracování analýz rizik a sanace nejvážněji kontaminovaných lokalit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3.5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nvironmentální rizika a rozvíjet systémy jejich říz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75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 Unicode MS"/>
              </a:rPr>
              <a:t>realizace komplexní inventarizace všech kontaminovaných a potenciálně kontaminovaných lokalit, jejímž výstupem bude databáze těchto lokalit. Na základě informací získaných o kontaminaci a jejích dopadech budou lokality v databázi kategorizovány do priorit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B5BC-CC77-4FA0-9C88-545CC69B308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4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říznivý stav předmětu ochrany národně významných chráněných územ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implementace soustavy Natura 200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biodiverzitu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speciální péče o vzácné biotopy, jako jsou například rašeliniště, písčiny a stepní biotopy, cílené na zlepšení jejich kvality a druhového složení (včetně omezování invazních a expanzivních druhů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F034-C3F1-402A-B7AA-3F9F7C1ADC1A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4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přirozené funkce krajin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opatření na zprůchodnění migračních bariér pro vybrané druhy živočichů (obojživelníci, chráněné druhy plazů, vydra, bobr, sysel, netopýři), a to zejména na významných tahových cestách obojživelníků a na místech, kde dochází k úhynu kriticky a silně ohrožených druhů apo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kvalitu prostředí v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revitalizace funkčních ploch a prvků sídelní zeleně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D6B7A-38E2-4DD2-8E37-E7DA1A3EB43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5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5.1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Snížit energetickou náročnost veřejných budov a zvýšit využití obnovitelných zdrojů energi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celkové nebo dílčí energeticky úsporné renovace veřejn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5.2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Dosáhnout vysokého energetického standardu nových veřejn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ícenáklady na dosažení pasivního energetického standardu v případě výstavby nov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02EB-27E0-4407-9E15-2963040C7F8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Energetické úspory v památkově chráněných budovách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483920"/>
            <a:ext cx="81043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99"/>
              </a:spcBef>
              <a:spcAft>
                <a:spcPts val="24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rámci renovace budov památkově chráněných budov dle zákona č. 20/1987 Sb., o státní památkové péči, v platném znění, budou podporovány rovněž dílčí aktivity vedoucí ke snížení energetické náročnosti budovy bez ohledu na dosažení parametrů pro energetickou náročnost budovy dle vyhlášky č. 78/2013 Sb.,            o energetické náročnosti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99"/>
              </a:spcBef>
              <a:spcAft>
                <a:spcPts val="24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rámci připravovaných hodnotících kritérií budou památkově chráněné budovy hodnoceny zvlášť, tzn. že budou nastaveny mírnější bodové hranice než u „standardních“ budov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38C3-2F30-4F59-BF60-164D510D8EC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272360" cy="7066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Energetické úspory v památkově chráněných budovách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mezení způsobilých investičních (realizačních) nákladů u vybraných opatření: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Maximální způsobilé výdaje v případě snižování spotřeby energie zlepšením tepelně technických vlastností obvodových konstrukcí budov.</a:t>
            </a: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plocha na systémové hranici budovy.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*možnost uplatnění míry způsobilosti se bude odvíjet od požadavku příslušného orgánu památkové péče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D5C8-C5F7-4C13-A99C-D76F738DFC2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2349360"/>
          <a:ext cx="7343640" cy="2735280"/>
        </p:xfrm>
        <a:graphic>
          <a:graphicData uri="http://schemas.openxmlformats.org/drawingml/2006/table">
            <a:tbl>
              <a:tblPr/>
              <a:tblGrid>
                <a:gridCol w="4900320"/>
                <a:gridCol w="2443320"/>
              </a:tblGrid>
              <a:tr h="37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ZATEPLOVANÉ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č bez DPH /m</a:t>
                      </a:r>
                      <a:r>
                        <a:rPr b="1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*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4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bvodové stě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 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oché a šikmé střešní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 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5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onstrukce k nevytápěným prostorů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půdám, suterénům, ostatním místnost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dlahy na zemin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ýplně otvor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 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Výplně otvorů – památkové chráněné budo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0 000</a:t>
                      </a:r>
                      <a:r>
                        <a:rPr b="1" lang="cs-CZ" sz="1400" spc="-1" strike="noStrike" baseline="30000">
                          <a:solidFill>
                            <a:srgbClr val="ff0000"/>
                          </a:solidFill>
                          <a:latin typeface="Arial Unicode MS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lokace pro jednotlivé prioritní osy pro období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9CA4-5913-41C5-94AF-5D0B849E9FE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19280" y="1557360"/>
          <a:ext cx="5545080" cy="3887640"/>
        </p:xfrm>
        <a:graphic>
          <a:graphicData uri="http://schemas.openxmlformats.org/drawingml/2006/table">
            <a:tbl>
              <a:tblPr/>
              <a:tblGrid>
                <a:gridCol w="2494080"/>
                <a:gridCol w="1544400"/>
                <a:gridCol w="1506600"/>
              </a:tblGrid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Prioritní o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mil. 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Celkem (vč. 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 6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alší informace k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ýše podpor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Uznatelnost nákl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Systém administrace projekt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Přílohy k žádosti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Pravidlo N + 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še je stanoven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Unicode MS"/>
              </a:rPr>
              <a:t>v Pravidlech pro žadatele a příjemce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, které nahrazují stávající ID, ZPŽP, Příručku a Směrnici MŽ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E4EC-DB79-46DC-A4F5-66B71373409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Informace k MS20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MS2014+ v rámci všech operačních program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Uživatelé systému neinstalují do počítače žádný program – veškerá administrace probíhá v okně internetového prohlížeče (portál IS KP14+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Elektronické podání žádosti o podporu (prostřednictvím elektronického podpisu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eškerá komunikace mezi uživateli bude probíhat elektronicky (tzv. interní depeše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AEE3-30A4-4944-A78B-25102883BAD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Konec financování OPŽP 2007-2013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31.12.2015 = konec způsobilosti výdajů OPŽP 2007-2013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tj. datum vystavení faktury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a datum uhrazení faktury dodavateli musí proběhnout do 31.12.2015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edpokládaný termín pro podání posledních Žádostí o platbu je konec listopadu 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čátkem roku 2016 bude výjimečně možné podat  ŽoP (pouze formou tzv. ex-post platby) na faktury vystavené v 11 – 12/2015 a uhrazené dodavateli do 31.12.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 konce roku 2015 je nezbytné vyrovnat veškeré závazky příjemců podpory vůči dodavatelům ve smyslu Závazných pokynů pro žadatele a příjemce podpory, kapitoly „Zásady financování – náležitosti Žádosti o platbu“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FCB0-7C5B-4032-87C1-99F1173F982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0" t="10523" r="1341" b="3178"/>
          <a:stretch/>
        </p:blipFill>
        <p:spPr>
          <a:xfrm>
            <a:off x="357120" y="1341360"/>
            <a:ext cx="7489800" cy="524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262D-ADE7-429C-B371-4926EF1D7B6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nice 5"/>
          <p:cNvSpPr/>
          <p:nvPr/>
        </p:nvSpPr>
        <p:spPr>
          <a:xfrm flipV="1">
            <a:off x="324000" y="1341000"/>
            <a:ext cx="7522920" cy="524052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nice 7"/>
          <p:cNvSpPr/>
          <p:nvPr/>
        </p:nvSpPr>
        <p:spPr>
          <a:xfrm>
            <a:off x="324000" y="1341360"/>
            <a:ext cx="7522920" cy="524052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rcRect l="0" t="10800" r="1281" b="4581"/>
          <a:stretch/>
        </p:blipFill>
        <p:spPr>
          <a:xfrm>
            <a:off x="106200" y="1268280"/>
            <a:ext cx="8498160" cy="541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11C4-FA0E-43DA-AA04-0CC33D1B383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ázek 1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570880" cy="529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1ECE-AE07-4C57-8357-F4FF5ECA32D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rázek 2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715240" cy="546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1672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7" name="Zástupný symbol pro obsah 4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712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1672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9" name="Zástupný symbol pro obsah 3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5773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Webové stránk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8255-B0FE-47A5-BBC7-E756D37660C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rázek 4" descr=""/>
          <p:cNvPicPr/>
          <p:nvPr/>
        </p:nvPicPr>
        <p:blipFill>
          <a:blip r:embed="rId1"/>
          <a:srcRect l="0" t="10615" r="1116" b="3211"/>
          <a:stretch/>
        </p:blipFill>
        <p:spPr>
          <a:xfrm>
            <a:off x="179280" y="126828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119700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Zateplení církevního objektu Sboru Bratrské jednoty baptistů v Chebu, </a:t>
            </a: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žadatel Sbor Bratrské jednoty baptistů v Chebu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74" name="Zástupný symbol pro obsah 4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76720" cy="316548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9144-DAB2-4B5C-BAA4-05827FA5870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rázek 5" descr=""/>
          <p:cNvPicPr/>
          <p:nvPr/>
        </p:nvPicPr>
        <p:blipFill>
          <a:blip r:embed="rId2"/>
          <a:stretch/>
        </p:blipFill>
        <p:spPr>
          <a:xfrm>
            <a:off x="4500720" y="3375000"/>
            <a:ext cx="4545000" cy="340848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6"/>
          <p:cNvSpPr/>
          <p:nvPr/>
        </p:nvSpPr>
        <p:spPr>
          <a:xfrm>
            <a:off x="4500720" y="1413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eplení obvodových plášťů budovy a střešních konstru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měna a rekonstrukce otvorových výplní ob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ovéPole 7"/>
          <p:cNvSpPr/>
          <p:nvPr/>
        </p:nvSpPr>
        <p:spPr>
          <a:xfrm>
            <a:off x="0" y="4724280"/>
            <a:ext cx="45007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    1 820 397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   829 185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  746 266,50 Kč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634 326,52 Kč; SFŽP 111 939,98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740720" cy="79200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4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Beskydská Oáza v Písku – realizace úspor energie, </a:t>
            </a:r>
            <a:br>
              <a:rPr sz="2000"/>
            </a:b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žadatel Slezská církev evangelická augsburského vyznání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80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2119320"/>
            <a:ext cx="3875040" cy="461160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0EB6-84B7-419F-8F7F-833F0F11B62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Obrázek 5" descr=""/>
          <p:cNvPicPr/>
          <p:nvPr/>
        </p:nvPicPr>
        <p:blipFill>
          <a:blip r:embed="rId2"/>
          <a:stretch/>
        </p:blipFill>
        <p:spPr>
          <a:xfrm>
            <a:off x="108000" y="1352520"/>
            <a:ext cx="3816360" cy="43880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6"/>
          <p:cNvSpPr/>
          <p:nvPr/>
        </p:nvSpPr>
        <p:spPr>
          <a:xfrm>
            <a:off x="4643280" y="13525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řízení nového kotle na biomasu (pelet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7"/>
          <p:cNvSpPr/>
          <p:nvPr/>
        </p:nvSpPr>
        <p:spPr>
          <a:xfrm>
            <a:off x="395280" y="5732640"/>
            <a:ext cx="46814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     603 55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 503 55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453 195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428 017,50 Kč; SFŽP 25 177,50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272360" cy="7066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4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Rekonstrukce zahrady,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žadatel </a:t>
            </a: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Farní sbor Českobratrské církve evangelické v Táboře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86" name="Zástupný symbol pro obsah 4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59280" cy="48956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5303-5300-4894-8F9A-B867F2ECDF0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5"/>
          <p:cNvSpPr/>
          <p:nvPr/>
        </p:nvSpPr>
        <p:spPr>
          <a:xfrm>
            <a:off x="5076720" y="177336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letní obnova travnaté plo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azení nových stromků a keř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šetření stromů stávající vč. zajištění potřebného zavla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6"/>
          <p:cNvSpPr/>
          <p:nvPr/>
        </p:nvSpPr>
        <p:spPr>
          <a:xfrm>
            <a:off x="5076720" y="4076640"/>
            <a:ext cx="374652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31 898,6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71 732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34 037,70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283 916,74 Kč; SFŽP 50 120,96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7FA7-9FE3-4049-A4A2-5D87920BCBA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Děkuji Vám za pozornos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692360" y="5300640"/>
            <a:ext cx="7056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átní fond životního prostředí České republiky, Kaplanova 1931/1, 148 00 Praha 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martin.kubica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JohnSans Text Pro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37372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7" descr="Mozaika_prezentac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16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Martin Kub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náměs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ávaznost OPŽP 2007-13 a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6D8FE-31CD-4027-A5BF-3094BBBE80B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341000"/>
            <a:ext cx="8215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ŽP 2014-2020 svým zaměřením navazuje na OPŽP 2007-201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užívá získaných zkušeností, které směřují k nastavení efektivního a kvalitního systému podpory ochrany životního prostřed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roti předchozímu OPŽP 2007-2013 je více koncentrován na identifikované prioritní problémy, zejména v PO 2 (snížení emisí z lokálního vytápění domácností) a PO 5 (snížení energetické náročnosti budov a zvýšení využití obnovitelných zdrojů energi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ípravy na programové období 2014-2020 probíhají v ČR již od roku 2010, v čele procesu přípravy je MM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226B-F333-4FDA-903A-B1D3D2BF37B4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ktuální stav příprav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hoda o partnerství – schválena Evropskou komisí 26. 8. 201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gramový dokument OPŽP – verze č. 9 schválena Evropskou komisí 30. 4. 201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avidla pro žadatele a příjemce – zveřejněna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1"/>
              </a:rPr>
              <a:t>http://www.opzp.cz/obecne-pokyny/dokumenty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zvy včetně HK – zveřejněny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http://www.opzp.cz/vyzvy/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hájení příjmu žádostí – 14. 8. 201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y pro období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1: Zlepšování kvality vody a snižování rizika povod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2: Zlepšování kvality ovzduší v lidských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3: Odpady a materiálové toky, ekologické zátěže a rizika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4 : Ochrana a péče o přírodu a kraji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5: Energetické úspor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5B21-C4F2-4F82-A152-0554C222C21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1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množství vypouštěného znečištění do povrchových i podzemních vod z komunálních zdrojů a vnos znečišťujících látek do povrchových a podzemních vod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ýstavba kanalizace za předpokladu existence vyhovující čistírny odpadních vod v aglomeraci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dodávky pitné vody v odpovídající jakosti a množstv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ýstavba a modernizace úpraven vody a zvyšování kvality zdrojů pitné vody včetně výstavby a modernizace systémů (technická opatření) pro ochranu zdrojů pitné vody v jejich bezprostřední blízkosti, sloužící veřejné potřebě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0C07-60BB-4A42-B348-23C1DDE1B18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1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ovodňovou ochranu intravilá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hospodaření se srážkovými vodami v intravilánu a jejich další využití namísto jejich urychleného odvádění kanalizací do tok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dpořit preventivní protipovodňová opatř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budování a rozšíření varovných, hlásných, předpovědních a výstražných systémů na lokální úrovni, digitální povodňové plán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1614-13C3-43D2-A6DA-E28B590AA6C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2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6600" indent="-2466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z lokálního vytápění domácností podílející se na expozici obyvatelstva nadlimitním koncentracím znečišťujících látek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měna kotle na pevná paliva za nový kotel na pevná nebo plynná paliva s minimálními emisemi znečišťujících láte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6600" indent="-2466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stacionárních zdrojů podílející se na expozici obyvatelstva nadlimitním koncentracím znečišťujících látek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ompletní nebo dílčí náhrada či rekonstrukce stávajících spalovacích a nespalovacích stacionárních zdrojů znečišťován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56B5-ACD7-4E86-89F9-51AC915136C8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2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systém sledování, hodnocení a předpovídání vývoje kvality ovzduší a souvisejících meteorologických aspektů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stavba a obnova systémů sledování kvality ovzduší a souvisejících meteorologických aspektů v celorepublikovém či regionálním měřítku (zejména monitorovací sítě, laboratoře, zabezpečení sběru vzorků a přenosu dat, technika pro primární zpracování dat, jejich archivaci a prezentaci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7CE5-613E-4936-A744-CF63F6636AE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18:41Z</dcterms:created>
  <dc:creator>Milena Pecnová</dc:creator>
  <dc:description/>
  <dc:language>en-US</dc:language>
  <cp:lastModifiedBy>Capkova Dagmar</cp:lastModifiedBy>
  <dcterms:modified xsi:type="dcterms:W3CDTF">2015-06-24T13:41:02Z</dcterms:modified>
  <cp:revision>90</cp:revision>
  <dc:subject/>
  <dc:title>Snímek 1</dc:title>
</cp:coreProperties>
</file>