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6DBC-FD16-4C34-A8D9-9F1641A8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D85F-8060-4576-9839-C2DF5F38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5B70-8CDE-4DA3-B492-65E3AB92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398E-F1E0-4977-B664-BA742191A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2190-ABC1-4216-8B8D-06B81E4F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8680-FC69-462D-8260-EE2BE74D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11B0-E308-4CAE-86C7-972EC011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3919-DA5C-4F2B-A55B-30756997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8EE55-8964-4F08-9EAB-F5C5D5D8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D66E-0C95-4B5B-B471-C2E717B1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EF42-33AD-48A9-ACFF-85524A8E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2C5E-D77B-4147-B78B-2A0F02D4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2C7E8-ECFD-41F4-8021-DB3C35D4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1D150-44A5-494E-A1C0-3BAD4E94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DF8C5-FA3A-4965-BC2C-7F4ACA54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30D4-5540-4644-A3FB-AFD53217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5F8A-316E-43BA-91DC-088F0245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20BEF4-5372-4204-BC6C-12C0362B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A1A93C-DCCF-4DD6-BC9A-90BE00ED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93F8F8-FE5B-4EF0-ACA6-C95887F3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C19D47-5414-4650-8412-EB1F0AD5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A4F70D-4791-44E0-A1C3-856091AB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0B67-6D1A-4558-949C-D8D30EA5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4814F-FA59-4A90-B752-5D980656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488B21-D970-439B-9FFE-801F5CC5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927C7-61AB-4D9A-9011-3F38A9CB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86D1F8-721D-47EE-A9C7-DE0C68F4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0B92E4-0D8F-4952-A9F7-BDF12B9D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D3418C-A504-4B3F-A16B-CA9100FF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96BB3D-C797-45B6-9639-2A7ED4CD3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A311A-F998-431A-B759-0E9303D2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821CF-C991-4115-A6A4-1A30120C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2F51A-9968-4DA3-879D-56AEA10E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EB5D-8B49-4118-AF17-E2ED0BEF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30CBF-7B06-41B2-8DA9-6AD3A005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1C3B3-B622-4794-ADEE-750CE155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990BC-288F-4040-B18D-C5EBDB6E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B2D52-E13D-4805-9F5F-3DBDE3AC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5F236-1E73-439A-91EF-02F29A92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E0E97-F400-410C-BEEC-741338E1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0F4A3-9DAA-48D9-AC13-B0A6B0F5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4CCDB-4457-4F4C-8202-0028356F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90C70-360F-4604-9C31-18C3FD67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2EF7AF-D821-4EF9-9EF4-000D7C8F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C6A9-A8BD-44CF-A319-39760806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FCB1F1-241E-4EEC-957D-5E812B66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6C4B0F-548F-4F56-AE20-07BF8C4D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BB413A-F1CC-4E4F-A257-D535EF48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861D3B-124A-4A8D-B865-04DDFF04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E3E578-466C-4C53-95D3-F2E5FEA0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0FC9C4-CC97-4BC5-9BAB-DC8AFCBE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7C8DC4-1DB9-46B2-8643-1E1B0A64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B1E1C9-56B0-4784-9F66-F07242B8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09A7EF-3B55-490F-849B-E5332936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CEF1C3-6BFE-4EC9-93DD-4E43291E6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79F9-7A9E-4B4C-808F-DE1A303B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71C070-6D13-4CD9-8846-4715779F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F5489A-CA68-447F-B665-A8F6BBF3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787D77-2828-4301-9582-2457BA0B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A90832-4C99-4A14-8394-6AD49069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5366FE-847C-496D-9010-4335FA74B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586F1D-DE19-4737-99DD-D4A7D6A4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DB5319-E1E0-4702-B04D-AC5F151A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585687-A1AB-4548-9A84-63A39F9E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1A1211-4866-4A6D-9ED1-3EBFA6A6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B62B45-9778-4D7A-B356-230AA319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6AFD-5A38-4883-9D8F-04AF2F6D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1B4D22-ABCC-4AB6-A009-018ECFC3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0FBC4F-AF86-4D6D-8E22-FC610226C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6633B3-DCD4-46E4-9D76-30E338F5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CA5F82-8A4C-42E7-BE84-EFB3EC9E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0921C9-1960-47B1-8800-86DC3769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1F785D-0915-40A6-8D68-FC1C26A8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5518AB-0F72-46C1-A2BA-CC0F5DFF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F6EA6C-4D0A-461D-B23C-3975574A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5B94F4-19A8-44C6-A7CB-2E63D94B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AF3D57-2CB3-48EE-9F80-F9511637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08EF-2462-494C-8F5F-6EE8261B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486A1A-B1EE-4B97-828A-99AB6A2B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C5981D-0A7B-4F06-972A-0B063C72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8D9C67-DA3B-47D7-A5D7-F60B707C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1060D6-AC8F-4997-A695-063D7350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5598EA-5E48-42B4-941B-76398AD6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8EA2-8214-4316-8C0C-CA48CBC6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80C7-C26D-41CD-AAFE-9E38A779E7A4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římá spojovací čára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Obdélník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ipsa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ipsa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ipsa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ipsa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ipsa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ADC6-D3F6-46BD-974E-8F194D6AF863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3323-D36C-4034-BD1D-CFBCA9CDEE20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ipsa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ipsa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ipsa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římá spojovací čára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23CC-0331-4F82-A36C-03EF19E4BA42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196EB-5491-47E8-8646-D1C6A512B5D5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římá spojovací čára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římá spojovací čára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římá spojovací čára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Obdélník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římá spojovací čára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ipsa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AD22D-309A-4B7D-9105-9B8C6CF2CF31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ipsa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římá spojovací čára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římá spojovací čára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E3C4-122C-4CC0-B5B1-C8D0E49D563F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benefit.kr-kralovehradecky.cz/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99800" y="928800"/>
            <a:ext cx="657252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1" lang="cs-CZ" sz="2700" spc="-1" strike="noStrike">
                <a:solidFill>
                  <a:srgbClr val="575f6d"/>
                </a:solidFill>
                <a:latin typeface="Century Schoolbook"/>
              </a:rPr>
              <a:t>GRANTY A DOTACE KRÁLOVÉHRADECKÉHO KRAJE VYPSANÉ V ROCE 2009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714400" y="2786040"/>
            <a:ext cx="5429160" cy="35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Cestovní ruc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Kultura a památková péč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Obce a mikroregion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Sociální oblas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Školství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Volnočasové aktivi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Životní prostředí a zemědělství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Mezinárodní spoluprác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ŠKOLSTVÍ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214280"/>
            <a:ext cx="76150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OBLAST PREVEN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OBLAST VZDĚLÁVÁN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2714760" y="3714840"/>
          <a:ext cx="3214440" cy="579240"/>
        </p:xfrm>
        <a:graphic>
          <a:graphicData uri="http://schemas.openxmlformats.org/drawingml/2006/table">
            <a:tbl>
              <a:tblPr/>
              <a:tblGrid>
                <a:gridCol w="1606320"/>
                <a:gridCol w="160812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714240" y="5072040"/>
          <a:ext cx="7358040" cy="579600"/>
        </p:xfrm>
        <a:graphic>
          <a:graphicData uri="http://schemas.openxmlformats.org/drawingml/2006/table">
            <a:tbl>
              <a:tblPr/>
              <a:tblGrid>
                <a:gridCol w="5357880"/>
                <a:gridCol w="200016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Žádosti musí být nově vyplňovány na oficiálním formuláři v systému Benefit (</a:t>
            </a:r>
            <a:r>
              <a:rPr b="0" lang="cs-CZ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s://benefit.kr-kralovehradecky.cz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) do určeného data a zároveň musí být písemná finalizovaná podoba žádosti spolu s přílohami zaslána v daném termínu na příslušné oddělení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500040" y="1954080"/>
          <a:ext cx="7467480" cy="903600"/>
        </p:xfrm>
        <a:graphic>
          <a:graphicData uri="http://schemas.openxmlformats.org/drawingml/2006/table">
            <a:tbl>
              <a:tblPr/>
              <a:tblGrid>
                <a:gridCol w="6286680"/>
                <a:gridCol w="118080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00.000,- Kč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0.000,- Kč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možný podíl podpory na celkových přijatelných nákladech projekt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sp>
        <p:nvSpPr>
          <p:cNvPr id="355" name="Nadpis 1"/>
          <p:cNvSpPr/>
          <p:nvPr/>
        </p:nvSpPr>
        <p:spPr>
          <a:xfrm>
            <a:off x="457200" y="274680"/>
            <a:ext cx="74674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CESTOVNÍ  RUCH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00040" y="4346640"/>
          <a:ext cx="7358040" cy="868320"/>
        </p:xfrm>
        <a:graphic>
          <a:graphicData uri="http://schemas.openxmlformats.org/drawingml/2006/table">
            <a:tbl>
              <a:tblPr/>
              <a:tblGrid>
                <a:gridCol w="6215040"/>
                <a:gridCol w="114300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podpo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podpo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možný podíl podpory na celkových přijatelných nákladech projekt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sp>
        <p:nvSpPr>
          <p:cNvPr id="357" name="Zástupný symbol pro obsah 2"/>
          <p:cNvSpPr/>
          <p:nvPr/>
        </p:nvSpPr>
        <p:spPr>
          <a:xfrm>
            <a:off x="428760" y="1500120"/>
            <a:ext cx="754380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ÚPRAVA LYŽAŘSKÝCH BĚŽECKÝCH TRAS (</a:t>
            </a:r>
            <a:r>
              <a:rPr b="1" lang="cs-CZ" sz="2200" spc="-1" strike="noStrike">
                <a:solidFill>
                  <a:srgbClr val="000000"/>
                </a:solidFill>
                <a:latin typeface="Century Schoolbook"/>
              </a:rPr>
              <a:t>CRG012009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POŘÁDÁNÍ PREZENTAČNĚ-PROPAGAČNÍCH AKCÍ V OBLASTI CESTOVNÍHO RUCHU (</a:t>
            </a:r>
            <a:r>
              <a:rPr b="1" lang="cs-CZ" sz="2200" spc="-1" strike="noStrike">
                <a:solidFill>
                  <a:srgbClr val="000000"/>
                </a:solidFill>
                <a:latin typeface="Century Schoolbook"/>
              </a:rPr>
              <a:t>CRG032009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entury Schoolbook"/>
              </a:rPr>
              <a:t>Uzávěrka příjmu žádostí do těchto grantových programů byla 30.4. 2009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cs-CZ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KULTURA A PAMÁTKOVÁ PÉČE …1</a:t>
            </a:r>
            <a:br>
              <a:rPr sz="2500"/>
            </a:br>
            <a:r>
              <a:rPr b="1" lang="cs-CZ" sz="1300" spc="-1" strike="noStrike">
                <a:solidFill>
                  <a:srgbClr val="575f6d"/>
                </a:solidFill>
                <a:latin typeface="Century Schoolbook"/>
              </a:rPr>
              <a:t>(Již uzavřeno)</a:t>
            </a:r>
            <a:endParaRPr b="0" lang="en-US" sz="1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6150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PODPORA A ROZVOJ PROFESIONÁLNÍCH I NEPROFESIONÁLNÍCH KULTURNÍCH AKTIVIT (</a:t>
            </a:r>
            <a:r>
              <a:rPr b="1" lang="cs-CZ" sz="2200" spc="-1" strike="noStrike">
                <a:solidFill>
                  <a:srgbClr val="000000"/>
                </a:solidFill>
                <a:latin typeface="Century Schoolbook"/>
              </a:rPr>
              <a:t>KPG012009</a:t>
            </a: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OBNOVA PAMÁTKOVÉHO FONDU NA ÚZEMÍ KRÁLOVÉHRADECKÉHO KRAJE (</a:t>
            </a:r>
            <a:r>
              <a:rPr b="1" lang="cs-CZ" sz="2200" spc="-1" strike="noStrike">
                <a:solidFill>
                  <a:srgbClr val="000000"/>
                </a:solidFill>
                <a:latin typeface="Century Schoolbook"/>
              </a:rPr>
              <a:t>KPG022009</a:t>
            </a: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642960" y="2786040"/>
          <a:ext cx="7286760" cy="868320"/>
        </p:xfrm>
        <a:graphic>
          <a:graphicData uri="http://schemas.openxmlformats.org/drawingml/2006/table">
            <a:tbl>
              <a:tblPr/>
              <a:tblGrid>
                <a:gridCol w="6005520"/>
                <a:gridCol w="128124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dota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dota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možný podíl dotace na celkových nákladech projekt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642960" y="4786200"/>
          <a:ext cx="7286760" cy="1528920"/>
        </p:xfrm>
        <a:graphic>
          <a:graphicData uri="http://schemas.openxmlformats.org/drawingml/2006/table">
            <a:tbl>
              <a:tblPr/>
              <a:tblGrid>
                <a:gridCol w="2714760"/>
                <a:gridCol w="3000240"/>
                <a:gridCol w="1571760"/>
              </a:tblGrid>
              <a:tr h="361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možný podíl vlastníka na celkových nákladech projektu</a:t>
                      </a: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	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ozpětí možné dotace v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inimální podí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ovitá kulturní památ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.000 - 30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emovitá kulturní památ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.000 - 50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bjekt v PR, PZ, O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.000 - 30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cs-CZ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KULTURA A PAMÁTKOVÁ PÉČE …2</a:t>
            </a:r>
            <a:br>
              <a:rPr sz="2500"/>
            </a:br>
            <a:r>
              <a:rPr b="1" lang="cs-CZ" sz="1300" spc="-1" strike="noStrike">
                <a:solidFill>
                  <a:srgbClr val="575f6d"/>
                </a:solidFill>
                <a:latin typeface="Century Schoolbook"/>
              </a:rPr>
              <a:t>(Již uzavřeno)</a:t>
            </a:r>
            <a:endParaRPr b="0" lang="en-US" sz="1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77580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PODPORA PUBLIKAČNÍ ČINNOSTI A LITERATURY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KPG032009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OBNOVA HISTORICKÝCH VARHAN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KPG042009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714240" y="2071800"/>
          <a:ext cx="7286760" cy="868320"/>
        </p:xfrm>
        <a:graphic>
          <a:graphicData uri="http://schemas.openxmlformats.org/drawingml/2006/table">
            <a:tbl>
              <a:tblPr/>
              <a:tblGrid>
                <a:gridCol w="6005520"/>
                <a:gridCol w="128124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dota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dota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možný podíl dotace na celkových nákladech projekt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714240" y="4643280"/>
          <a:ext cx="7286760" cy="868680"/>
        </p:xfrm>
        <a:graphic>
          <a:graphicData uri="http://schemas.openxmlformats.org/drawingml/2006/table">
            <a:tbl>
              <a:tblPr/>
              <a:tblGrid>
                <a:gridCol w="6000840"/>
                <a:gridCol w="128592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dota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0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dota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možný podíl dotace na celkových nákladech projekt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cs-CZ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KULTURA A PAMÁTKOVÁ PÉČE …3</a:t>
            </a:r>
            <a:br>
              <a:rPr sz="2500"/>
            </a:br>
            <a:r>
              <a:rPr b="1" lang="cs-CZ" sz="1300" spc="-1" strike="noStrike">
                <a:solidFill>
                  <a:srgbClr val="575f6d"/>
                </a:solidFill>
                <a:latin typeface="Century Schoolbook"/>
              </a:rPr>
              <a:t>(Již uzavřeno)</a:t>
            </a:r>
            <a:endParaRPr b="0" lang="en-US" sz="1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6150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PODPORA NEMOVITÝCH OBJEKTŮ HISTORICKÉ HODNOTY A UMĚLECKO-ŘEMESLNÝCH DĚL, KTERÉ NEJSOU KULTURNÍ PAMÁTKOU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KPG052009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571680" y="3000240"/>
          <a:ext cx="7286400" cy="949320"/>
        </p:xfrm>
        <a:graphic>
          <a:graphicData uri="http://schemas.openxmlformats.org/drawingml/2006/table">
            <a:tbl>
              <a:tblPr/>
              <a:tblGrid>
                <a:gridCol w="2714400"/>
                <a:gridCol w="3000600"/>
                <a:gridCol w="1571400"/>
              </a:tblGrid>
              <a:tr h="365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možný podíl vlastníka na celkových nákladech projektu</a:t>
                      </a: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	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ozpětí možné podpory v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inimální podí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emovitá vě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.000 - 25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OBCE A MIKROREGIONY …1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214280"/>
            <a:ext cx="76150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entury Schoolbook"/>
              </a:rPr>
              <a:t>Uzávěrka sběru žádostí do vyhlášených programů byla 16. 4. 2009, s výjimkou grantu RRD062009 Podpora provozu cyklobusů v turistických regionech, u kterého byla uzávěrka 25. 3. 2009.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PROFESIONALIZACE SVAZKŮ OBCÍ (</a:t>
            </a:r>
            <a:r>
              <a:rPr b="1" lang="cs-CZ" sz="2200" spc="-1" strike="noStrike">
                <a:solidFill>
                  <a:srgbClr val="000000"/>
                </a:solidFill>
                <a:latin typeface="Century Schoolbook"/>
              </a:rPr>
              <a:t>RRD022009</a:t>
            </a: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POŘÍZENÍ, AKTUALIZACE A DIGITALIZACE ÚZEMNÍCH PLÁNŮ OBCÍ DO 2000 OBYVATEL (</a:t>
            </a:r>
            <a:r>
              <a:rPr b="1" lang="cs-CZ" sz="2200" spc="-1" strike="noStrike">
                <a:solidFill>
                  <a:srgbClr val="000000"/>
                </a:solidFill>
                <a:latin typeface="Century Schoolbook"/>
              </a:rPr>
              <a:t>RRD032009</a:t>
            </a: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714240" y="2857680"/>
          <a:ext cx="7358040" cy="731520"/>
        </p:xfrm>
        <a:graphic>
          <a:graphicData uri="http://schemas.openxmlformats.org/drawingml/2006/table">
            <a:tbl>
              <a:tblPr/>
              <a:tblGrid>
                <a:gridCol w="3286440"/>
                <a:gridCol w="40716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aximální výše podpory (obec může být zařazena pro účely dotace pouze v jednom svazku obcí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k x počet obyvatel + 80 000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k = hustota obyvatelstva na území kraje/ hustota obyvatelstva na území svazk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642960" y="4786200"/>
          <a:ext cx="7429320" cy="949320"/>
        </p:xfrm>
        <a:graphic>
          <a:graphicData uri="http://schemas.openxmlformats.org/drawingml/2006/table">
            <a:tbl>
              <a:tblPr/>
              <a:tblGrid>
                <a:gridCol w="5929200"/>
                <a:gridCol w="150012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není stanove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možný podíl podpory na celkových nákladech projekt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0%</a:t>
                      </a: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OBCE A MIKROREGIONY …2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214280"/>
            <a:ext cx="76150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VYBAVENÍ SVAZKŮ OBCÍ ZÁKLADNÍ TECHNIKOU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RRD042009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PODPORA PROVOZU CYKLOBUSŮ V TURISTICKÝCH REGIONECH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RRD062009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PODPORA CYKLODOPRAVY V NÁVAZNOSTI NA KONCEPCI CYKLODOPRAVY KRÁLOVÉHRADECKÉHO KRAJE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RRD072009A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STEZKY PRO REKREAČNÍ A TERÉNNÍ CYKLISTIKU - SINGLTREKY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RRD072009B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714240" y="1616040"/>
          <a:ext cx="7358040" cy="884160"/>
        </p:xfrm>
        <a:graphic>
          <a:graphicData uri="http://schemas.openxmlformats.org/drawingml/2006/table">
            <a:tbl>
              <a:tblPr/>
              <a:tblGrid>
                <a:gridCol w="6000840"/>
                <a:gridCol w="1357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podpory - mikroregiony od 2.500 obyvat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50.000,-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možný podíl podpory na celkových nákladech projektu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714240" y="3500280"/>
          <a:ext cx="7358040" cy="1067040"/>
        </p:xfrm>
        <a:graphic>
          <a:graphicData uri="http://schemas.openxmlformats.org/drawingml/2006/table">
            <a:tbl>
              <a:tblPr/>
              <a:tblGrid>
                <a:gridCol w="6000840"/>
                <a:gridCol w="135720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5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ení stanoven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možný podíl podpory na celkových přijatelných nákladech projekt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OBCE A MIKROREGIONY …3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214280"/>
            <a:ext cx="76150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PODPORA CYKLODOPRAVY V NÁVAZNOSTI NA KONCEPCI CYKLODOPRAVY KRÁLOVÉHRADECKÉHO KRAJE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RRD072009A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STEZKY PRO REKREAČNÍ A TERÉNNÍ CYKLISTIKU - SINGLTREKY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RRD072009B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642960" y="2143080"/>
          <a:ext cx="7358040" cy="593640"/>
        </p:xfrm>
        <a:graphic>
          <a:graphicData uri="http://schemas.openxmlformats.org/drawingml/2006/table">
            <a:tbl>
              <a:tblPr/>
              <a:tblGrid>
                <a:gridCol w="6000840"/>
                <a:gridCol w="1357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podpo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50.000,-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ení stanoven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642960" y="4214880"/>
          <a:ext cx="7358040" cy="579240"/>
        </p:xfrm>
        <a:graphic>
          <a:graphicData uri="http://schemas.openxmlformats.org/drawingml/2006/table">
            <a:tbl>
              <a:tblPr/>
              <a:tblGrid>
                <a:gridCol w="6000840"/>
                <a:gridCol w="135720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5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4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SOCIÁLNÍ OBLAST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214280"/>
            <a:ext cx="76150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DOTACE POSKYTOVATELŮM SOCIÁLNÍCH SLUŽEB V KRAJ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entury Schoolbook"/>
              </a:rPr>
              <a:t>dle § 101 zákona č. 108/2006 Sb , o sociálních službách, ve znění pozdějších předpisů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entury Schoolbook"/>
              </a:rPr>
              <a:t>Finanční prostředky na 1. splátku dotace z celkového objemu dotací na rok 2009 byly poslány na konci března 2009 z Krajského úřadu Královéhradeckého kraje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entury Schoolbook"/>
              </a:rPr>
              <a:t>Tuto splátku MPSV ČR vypočetlo následovně: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2643120" y="3286080"/>
          <a:ext cx="3214800" cy="579600"/>
        </p:xfrm>
        <a:graphic>
          <a:graphicData uri="http://schemas.openxmlformats.org/drawingml/2006/table">
            <a:tbl>
              <a:tblPr/>
              <a:tblGrid>
                <a:gridCol w="1606680"/>
                <a:gridCol w="160812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otace 20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28.034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. splát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1.268.35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714240" y="4643280"/>
          <a:ext cx="7358040" cy="746280"/>
        </p:xfrm>
        <a:graphic>
          <a:graphicData uri="http://schemas.openxmlformats.org/drawingml/2006/table">
            <a:tbl>
              <a:tblPr/>
              <a:tblGrid>
                <a:gridCol w="5357880"/>
                <a:gridCol w="20001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omovy pro seniory, domovy pro osoby se zdravotním postižením, domovy se zvláštním režimem a týdenní stacionář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50% z přidělené d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statní služb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5% z přidělené d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16:23:20Z</dcterms:created>
  <dc:creator>Stanislav Javůrek</dc:creator>
  <dc:description/>
  <dc:language>en-US</dc:language>
  <cp:lastModifiedBy>Stanislav Javůrek</cp:lastModifiedBy>
  <dcterms:modified xsi:type="dcterms:W3CDTF">2009-05-10T18:38:42Z</dcterms:modified>
  <cp:revision>17</cp:revision>
  <dc:subject/>
  <dc:title>Snímek 1</dc:title>
</cp:coreProperties>
</file>