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2148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80C9-C921-46BC-B3DC-3B01EE92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30F-023D-48DE-81F6-4B3A8F86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5AA-9BA2-4A7C-BFBC-CB3DDBDFA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54E-A1D9-4FAE-911C-28016CDA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0186-1FBF-49A3-B240-CF7F3CF5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B4C-314C-4E90-B2AB-807EAFAC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31F1-AD69-450F-BC7D-2543FC0C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391-842D-4A97-B02D-AE515E6F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C35-39A4-4CA8-9AD2-D5A7B736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0B37-D72B-4C5B-BFB6-D7A34C9D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2432-CF3D-44F2-94C7-22413AAD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C62E-7B3A-494E-97AC-082A9134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EE76-CADD-460C-A617-04EF0D169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57360"/>
            <a:ext cx="914400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Legislativa v bytové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AAE9-4248-4176-83CA-E9460A3B66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 nového zákona o vlastnictví byt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občanský zákoník - návrh nove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ého kodex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ajištění zdrojů - návrh novely zák. o rozpočtovém určení daní - připravuje 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ely zákona o Fondu - vratky dotací -   připravuje 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y nařízení vlády k jednotlivým novým podpůrným nástrojům - budou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řipravovány podle projektu nových opatření k podpoře investic do bydlen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ovela zák. č. 107/2006 Sb.- prodloužení cílového stavu deregulace do r. 201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oznámky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ro jednání vlády: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prava „Návrh Aktualizace nástrojů bytové politiky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egislativní opa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F77-5A70-47A7-B5C9-F2AED01846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ácen k dopracování dle připomínek členů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Legislativní rady vlády, návrh  je dopracováv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em je upřesnění vlastnictví, způsoby hlasování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orgánů výboru společenství  vlastníků a umožněn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hlasování „per rollam“ – zkvalitnění funkce SVJ,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snížení negativních vlivů pasivního chování členů SV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628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ávrh nového zákona o vlastnictví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894-425A-4F7A-BB05-1183734FEE0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ávrh novel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 oblasti nájmu byt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edloženo do Legislativní rady vlá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ákladem je posílení postavení vlastník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ílení smluvní volnosti účastníků nájemního vztah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ončení regulace nájemného a nástup režimu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stanovení nájemného dohod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íslušnost soudu ve sporech o výši nájemného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možnost stanovení výše nájemného soud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mezení přechodu nájmu po smrti nájem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148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BF4D-213C-433E-8840-A9681203107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CCE-7440-4C8E-9973-F381AE14F9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9:09Z</cp:lastPrinted>
  <dcterms:modified xsi:type="dcterms:W3CDTF">2009-05-11T21:14:13Z</dcterms:modified>
  <cp:revision>83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9961724</vt:r8>
  </property>
  <property fmtid="{D5CDD505-2E9C-101B-9397-08002B2CF9AE}" pid="3" name="_AuthorEmail">
    <vt:lpwstr>Marcela.Pavlova@mmr.cz</vt:lpwstr>
  </property>
  <property fmtid="{D5CDD505-2E9C-101B-9397-08002B2CF9AE}" pid="4" name="_AuthorEmailDisplayName">
    <vt:lpwstr>Pavlová Marcela</vt:lpwstr>
  </property>
  <property fmtid="{D5CDD505-2E9C-101B-9397-08002B2CF9AE}" pid="5" name="_EmailSubject">
    <vt:lpwstr>Žádost o přípravu prezentace</vt:lpwstr>
  </property>
  <property fmtid="{D5CDD505-2E9C-101B-9397-08002B2CF9AE}" pid="6" name="_PreviousAdHocReviewCycleID">
    <vt:r8>-665579781</vt:r8>
  </property>
  <property fmtid="{D5CDD505-2E9C-101B-9397-08002B2CF9AE}" pid="7" name="_ReviewingToolsShownOnce">
    <vt:lpwstr/>
  </property>
</Properties>
</file>