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1B68-99D8-432C-8228-84364B38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F59A-0F8D-4272-88DE-314764A4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1FD8-0722-4947-9673-B4947B44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DC22-6243-40CB-8E67-E63DBD922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4F39-92C4-486C-B871-D8E5CAEA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96B7-CE59-45EC-9B72-3347ADA0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0CC9-CDAA-4450-9476-D046C935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42CD-2D8D-44AF-AC75-F50575EE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AC5E-D53D-4D50-AE28-4FEBEC63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520A-7584-45E4-83CB-3D4A74BA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311F-13B8-4545-97F8-7C9BC7FD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2308-FB59-4570-AADD-3623D671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F058-6730-41F0-9987-4E63CB2E6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mr.cz/uploads/MMR_Temata/REGIONALNI_POLITIKA/Programy_Dotace_RP/081201_zasady_POV.pdf" TargetMode="External"/><Relationship Id="rId2" Type="http://schemas.openxmlformats.org/officeDocument/2006/relationships/hyperlink" Target="http://www.mmr.cz/uploads/MMR_Temata/REGIONALNI_POLITIKA/Programy_Dotace_RP/081201_zasady_VA.pdf" TargetMode="External"/><Relationship Id="rId3" Type="http://schemas.openxmlformats.org/officeDocument/2006/relationships/hyperlink" Target="http://www.mmr.cz/uploads/MMR_Temata/REGIONALNI_POLITIKA/Programy_Dotace_RP/080318_Zasady_217117.doc" TargetMode="External"/><Relationship Id="rId4" Type="http://schemas.openxmlformats.org/officeDocument/2006/relationships/hyperlink" Target="http://www.mmr.cz/uploads/MMR_Temata/REGIONALNI_POLITIKA/Programy_Dotace_RP/081201_zasady_BO.pdf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5661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4407e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28640"/>
            <a:ext cx="914400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nzultace pro starosty a místostaro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Dotační programy MMR ČR v oblasti bytové a regionální politi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D844-37F7-4D3A-A64E-69E69B360A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2. Finanční prostředky na rok 2009</a:t>
            </a: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2276640"/>
          <a:ext cx="8785440" cy="2941560"/>
        </p:xfrm>
        <a:graphic>
          <a:graphicData uri="http://schemas.openxmlformats.org/drawingml/2006/table">
            <a:tbl>
              <a:tblPr/>
              <a:tblGrid>
                <a:gridCol w="5472360"/>
                <a:gridCol w="1944720"/>
                <a:gridCol w="1368360"/>
              </a:tblGrid>
              <a:tr h="13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podpora bydlení (SFR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tečnost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počet 200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rekonstrukcí panelových bytových domů (program „PANEL“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věry mladým domácnostem na pořízení by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879B-0A9A-4ED2-9E4D-789AA20058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9280" y="242100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cílem je podpora celkové rekonstrukce a zateplení, prodloužení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 životnosti, modernizace, zvýšení standardu bydlení, nikoliv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 pouze jednotlivé opra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odmínky  - nař. vlády č. 299/2001 Sb. – všem vlastníkům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 panelových bytů a do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úroková dotace ve výši 2 procentních bodů po dobu splácení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 úvěru, max. 15 l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bankovní záruka za splácení úvěrů (ČMZRB, a.s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informační a poradenská střediska poskytnou metodickou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 pom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0" r="12942" b="0"/>
          <a:stretch/>
        </p:blipFill>
        <p:spPr>
          <a:xfrm>
            <a:off x="0" y="0"/>
            <a:ext cx="9145440" cy="907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9280" y="981000"/>
            <a:ext cx="8713800" cy="17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rogram podpora bydlení (SFRB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dpora rekonstrukcí panelových bytových domů (program „PANEL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3B8E-B013-457E-B0C2-947D19AC49F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9280" y="2276280"/>
            <a:ext cx="8964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úvěr do výše 300 000 Kč splatný do 20 let, fixní úrok 2 % p.a.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po celou dobu splác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samotná osoba pečující alespoň o jedno nezletilé dítě, která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v roce podání žádosti nedovrší 36 let věku nebo manželé,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z nichž alespoň jeden splňuje toto věkové kriter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na koupi bytu nebo rod. domku s 1 by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na výstavbu bytu nebo rod. domku s 1 by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na získání družstevního bytu převodem členských práv nebo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úhradou členského vklad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narodí-li se dítě v průběhu splácení úvěru, Fond sníží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nesplacenou část jistiny o 30 000 Kč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12942" b="0"/>
          <a:stretch/>
        </p:blipFill>
        <p:spPr>
          <a:xfrm>
            <a:off x="0" y="0"/>
            <a:ext cx="9145440" cy="1125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9280" y="1197000"/>
            <a:ext cx="8713800" cy="17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rogram podpora bydlení (SFRB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Úvěry mladým domácnostem na pořízení by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D11A-5E5E-4FF0-B19C-F38B361108A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9280" y="1916280"/>
            <a:ext cx="8964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ová opatření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s platností od roku 2010, budou-li  na ně finanční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       prostředky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dpora výstavby nájemních bytů - formou garancí SFR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dpora výstavby sociálních byt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vozní podpora pronajímatelů sociálních byt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dpora výstavby a rekonstrukcí technické infrastruktury – formou garancí SFR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ozšíření programu PANEL na nepanelové do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1557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Nové nástroje podpory investic do byd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58D-A946-4911-8D7B-4E222759212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136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íl:  podpora orientace podnikatelských záměrů na výstavbu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nájemních byt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rma podpory: záruky za dlouhodobé úvěry cestou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arančních nástrojů SFR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říjemci podpory: jakákoliv právnická nebo fyzická osob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vropský kontext: nezbytná notifikace u Evropské komi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9640" y="1484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a)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Podpora výstavby nájemních bytů – formou garancí SF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45EF-0AF6-4326-A762-4D1C81019A9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136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íl: podpora výstavby malých a dostupných bytů pro tu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kupinu obyvatel, která si není schopna z důvodů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ízkého příjmu pořídit bydle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ílová skupina: domácnosti s vymezeným příjm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rma podpory: investiční dotace na výstavbu nájemních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yt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říjemci podpory: jakákoli právnická nebo fyzická osob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vropský kontext: nezbytná notifikace u Evropské komi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9640" y="1484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b)   Podpora výstavby sociálních by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872E-9166-45E6-8441-3D854B846D2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280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íl: využít již existujících bytů pro bydlení sociálně potřebných oso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ílová skupina: domácnosti, které nejsou schopné hradit zvýšené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ájemné a nemohou z objektivních důvodů (věk, zdravotní stav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apod.)  přizpůsobit bydlení svým příjmovým možno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rma podpory: provozní podpora poskytovaná pronajímateli,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kompenzující rozdíl mezi dosavadní úrovní nájemného 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úrovní v místě a čase obvyklo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říjemci podpory: pronajímatelé na základě smlouvy mezi obcí a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najímatel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vropský kontext: není třeba notifikov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9640" y="1197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c)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Provozní podpora pronajímatelů sociálních bytů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BCC-59DE-48AF-B1B1-E4C9F0C7FD6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79912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cíl: rozšíření nabídky zainvestovaných pozemků pro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následnou výstavbu bytových a rodinných dom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forma podpory: záruky za dlouhodobé úvěry cestou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garančních nástrojů SFR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říjemci podpory: jakákoli právnická nebo fyzická osob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Evropský kontext: nezbytná notifikace u Evropské komi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9640" y="14842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d)  Podpora výstavby a rekonstrukcí technické infrastruktury – formou garancí SF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AB5C-C281-4A5B-BAED-762E36BCFC2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7991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íl: zajištění rovného nediskriminačního přístupu vlastníků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domů pro bydlení ke státní podpoře, stimulace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komplexní rekonstrukce bytových domů, podpora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energetických úsp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rma podpory: úroková dotace k bankovnímu úvě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říjemci podpory: vlastníci bytových domů postavených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jakoukoli stavební technologi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vropský kontext: nezbytná notifikace u Evropské komis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9640" y="1484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e)  Rozšíření programu PANEL na nepanelové d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FBE4-139C-45BC-A563-2FE14EBC561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87280" y="2781360"/>
            <a:ext cx="70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98560" y="5345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086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92000" y="224172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000" y="519444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000" y="443700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2000" y="299736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5661000"/>
            <a:ext cx="676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2000" y="371628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9220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2492280"/>
            <a:ext cx="8820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Arial"/>
              </a:rPr>
              <a:t>2. Programy v oblasti regionální politiky pro rok 2009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47C4-BE31-465A-8232-214F411894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Obsah prezentac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5661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4407e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y v oblasti bytové politi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y v oblasti regionální polit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tace na územní pl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C4B5-4C2B-47CC-82F1-F5A9AE6C9C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Národní programy v roce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rogram obnovy venko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ásady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mr.cz/uploads/MMR_Temata/REGIONALNI_POLITIKA/Programy_Dotace_RP/081201_zasady_POV.pd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odpora úprav bývalých vojenských areálů k obecnímu využit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ásady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mr.cz/uploads/MMR_Temata/REGIONALNI_POLITIKA/Programy_Dotace_RP/081201_zasady_VA.pd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Obnova obecního a krajského majetku postiženého živelní nebo jinou pohrom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ásady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mmr.cz/uploads/MMR_Temata/REGIONALNI_POLITIKA/Programy_Dotace_RP/080318_Zasady_217117.doc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ezbariérové obce – nový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ásady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mmr.cz/uploads/MMR_Temata/REGIONALNI_POLITIKA/Programy_Dotace_RP/081201_zasady_BO.pdf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5"/>
          <a:srcRect l="0" t="0" r="12951" b="0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F3AE-B00D-44F0-AA29-3E0EA1A6261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785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Finanční prostředky na rok 2009</a:t>
            </a: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9280" y="1844640"/>
          <a:ext cx="8785440" cy="4392720"/>
        </p:xfrm>
        <a:graphic>
          <a:graphicData uri="http://schemas.openxmlformats.org/drawingml/2006/table">
            <a:tbl>
              <a:tblPr/>
              <a:tblGrid>
                <a:gridCol w="5472360"/>
                <a:gridCol w="1944720"/>
                <a:gridCol w="13683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tečnost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vrh rozpočtu 200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úprav bývalých vojenských areálů k obecnímu využit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obnovy venko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nova obecního a krajského majetku postiženého živelní nebo jinou pohromo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bariérové ob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vý program)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2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6DE4-DB49-4127-B122-FB3E8051FC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Program obnovy venkova: </a:t>
            </a:r>
            <a:br>
              <a:rPr sz="3400"/>
            </a:b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ční titul č. 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ázev: Podpora vítězů soutěže Vesnice rok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jemci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tace do výše 80% celk. přím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nova a údržba venkovské zástavby a občanské vybavenost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nova a zřizování veřejné zeleně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konstrukce a výstavba místních komunikací, stezek a veřejného osvětle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prava a realizace propagačních materiálů obce v souvislosti s umístěním v soutěži Vesnice ro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5FA1-9250-4824-BFFC-90A9ABA933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ční titul č. 1 - pokračován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3628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lad o vlastnictví majetk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 akcí stavební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ásti projektové dokumentace zahrnující průvodní zprávu, souhrnnou technickou zprávu a situaci stavby jako součást dokumentace ak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lady požadované podle zákona č. 183/2006 Sb., o územním plánování a stavebním řádu (stavební zákon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de-li o stavby, terénní úpravy zařízení a udržovací práce podle § 103 stavebního zákona nevyžadující stavební povolení ani ohlášení, doloží se pouze soulad akce, pro niž je požadována dotace, se schválenou územně plánovací dokument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063E-1813-4276-923C-6B9E9A97F0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Program obnovy venkova: </a:t>
            </a:r>
            <a:br>
              <a:rPr sz="3400"/>
            </a:b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ční titul č.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820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zev: Podpora zapojení  dětí a mládeže do komunitního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života v obc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ce do 3000 obyvatel, svazky ob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otace do 70% celk. přímých nákladů s limitem dotace min. 50 tis. Kč, max. 300 tis. K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ou podporovány akce s výstupy sloužícími převážně dětem a mládeži, na jejichž výběru a přípravě (resp. realizaci) se děti a mládež prokazatelně podílely (resp. budou podílet), a které jsou zaměřené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novu a údržbu venkovské zástavby a občanské vybavenost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pravu veřejných prostranství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novu a zřizování veřejné zelen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konstrukci nebo vybudování zařízení pro volnočasové ak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E62F-6FCD-4AB0-9884-B0DFFEF481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ční titul č. 2 - pokračován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 o vlastnictví majet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is přípravy akce, zapojení dětí a mládeže včetně obrazové dokumentace, harmonogram akce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 akcí stavebního charakter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části projektové dokumentace zahrnující průvodní zprávu, souhrnnou technickou zprávu a situaci stavby jako součást dokumentace ak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y požadované podle zákona č. 183/2006 Sb., o územním plánování a stavebním řádu (stavební zákon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de-li o stavby, terénní úpravy zařízení a udržovací práce podle § 103 stavebního zákona nevyžadující stavební povolení ani ohlášení, doloží se pouze soulad akce, pro niž je požadována dotace, se schválenou územně plánovací dokument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8999-4588-4EA7-BCD9-33F3FA3FF11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Program obnovy venkova: </a:t>
            </a:r>
            <a:br>
              <a:rPr sz="3400"/>
            </a:b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ční titul č. 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6868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Arial"/>
              </a:rPr>
              <a:t>Název: Podpora spolupráce obcí na obnově a rozvoji venkov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jemci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ce do 3000 obyvatel, svazky ob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tace do 70% celkových přímých nákladů s limitem dotace max. 200 tis. K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mět dot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ce nadregionálního významu zaměřené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255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365040"/>
                <a:tab algn="l" pos="4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zentace úspěšných projektů zaměřených na obnovu a rozvoj venkov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255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365040"/>
                <a:tab algn="l" pos="4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měna zkušeností při přípravě projektů zaměřených na obnovu a rozvoj venkov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255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365040"/>
                <a:tab algn="l" pos="4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pora spolupráce a odborného vzdělávání zástupců obcí zaměřeného na obnovu a rozvoj venk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5040"/>
                <a:tab algn="l" pos="4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DE1-485E-4DC1-96BD-68048091D4C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ční titul č. 3 - pokračován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 o vlastnictví majet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is akce, její cíle at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 akcí stavebního charakter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části projektové dokumentace zahrnující průvodní zprávu, souhrnnou technickou zprávu a situaci stavby jako součást dokumentace ak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y požadované podle zákona č. 183/2006 Sb., o územním plánování a stavebním řádu (stavební zákon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de-li o stavby, terénní úpravy zařízení a udržovací práce podle § 103 stavebního zákona nevyžadující stavební povolení ani ohlášení, doloží se pouze soulad akce, pro niž je požadována dotace, se schválenou územně plánovací dokument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EAC6-B6A3-4B6C-879A-B4064710639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686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rogram obnovy venkova: Dotační titul č.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zev: Podpora obnovy drobných sakrálních staveb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obcí (nový dotační tit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bce do 3000 obyvatel, svazek obc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dotace do 70% celk. nákladů s limitem dotace min. 50 tis. Kč, max. 400 tis. K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udou podporovány akce zaměřené na obnovu sakrálních staveb nalézajících se v katastrálním území obce, které nejsou prohlášeny kulturním památkou a jsou v majetku obce. Jedná se zejména o obnovu staveb jak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aple, kaplička, socha, boží muka, kří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úprava prostranství v okolí drobných sakrálních stave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AFC1-F7DF-4FCA-8E50-D3779CF198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Dotační titul č. 4 - pokračo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628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is akce, harmonogram akce (termín realizace akce, termín závěrečného vyhodnocení akce) apod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ásti projektové dokumentace zahrnující průvodní zprávu, souhrnnou technickou zprávu a situaci stavby jako součást dokumentace akce (podle charakteru stavby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lady požadované podle zákona č. 183/2006 Sb., o územním plánování a stavebním řádu v části čtvrté: Stavební řád (podle charakteru stavby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lad o vlastnictví majetku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4FC-5A1C-404A-BDC2-3408BBCF53B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87280" y="2781360"/>
            <a:ext cx="70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8560" y="5345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086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2000" y="224172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2000" y="519444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2000" y="443700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2000" y="299736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5661000"/>
            <a:ext cx="676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2000" y="371628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9220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2492280"/>
            <a:ext cx="8820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Arial"/>
              </a:rPr>
              <a:t>1. Programy v oblasti bytové politiky pro rok 2009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0A56-CB2F-4EC7-98D4-172D082D78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147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Program obnovy venkova: </a:t>
            </a:r>
            <a:br>
              <a:rPr sz="3600"/>
            </a:b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Dotační titul č.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zev: Podpora zapojení rómské komunity do života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obce a společnosti (nový dotační tit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bce do 3000 obyvatel, které mají min. 4 % romského etni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dotace do 70% celk. nákladů,dot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limitem min. 50 tis. Kč, max. 500 tis. K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občanská vybavenost, zařízení pro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volnočasové aktivity,související infrastruktur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38D1-DE01-473B-8534-CB81B734486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Dotační titul č. 5 - pokračová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lad o vlastnictví majetk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části projektové dokumentace zahrnující průvodní zprávu, souhrnnou technickou zprávu a situaci stavby jako součást dokumentace akc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lady požadované podle zákona č. 183/2006 Sb., o územním plánování a stavebním řádu (stavební zákon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án práce obce na zapojení romské komunity (aktivity obce, podpora romských spolků, sdružení),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e o využívání jiných dotačních programů pro práci s romskou komunito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kt na využití vybudovaného nebo rekonstruovaného objektu dokladující životnost ak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567-11F1-4D6B-B56F-1DBD7671AC7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odpora úprav bývalých vojenských areálů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k obecnímu využití: Dotační titul č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ázev: Infrastruktura a rekonstrukce</a:t>
            </a:r>
            <a:r>
              <a:rPr b="1" lang="cs-CZ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ec, svazek ob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otace do 75% celk. nákladů v daném roce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limitem dotace min. 100 tis.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konstrukce převzatých kasárenských areálů, popřípadě dalších objektů a ploch pro nové civilní využit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konstrukci, příp. vybudování nové infrastruktury v kasárnách nebo vojenských areálech související s novým využitím bývalých vojenských objektů a ploch nebo související infrastruktury umožňující napojení na nadřazené sítě, obnovu místních komunikací, parkovacích ploch a veřejného osvětlen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řevzatých objektů, zařízení a pozemků pro účely rozvoje cestovního ruchu, rekreace a sport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vedení demolic devastovaných nebo nevyužitelných objektů bránících provedení revitalizace areálů a uvolněných plo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2EB6-92AF-4D62-AA0B-42D0A61444B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otační titul č. 1 - pokrač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lad o vlastnictví majetk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části projektové dokumentace zahrnující průvodní zprávu, souhrnnou technickou zprávu a situaci stavby jako součást dokumentace akc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lady požadované podle zákona č. 183/2006 Sb., o územním plánování a stavebním řádu (stavební zákon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lad o souladu akce se schválenou územně plánovací dokumentaci, jde-li o stavby, terénní úpravy zařízení a udržovací práce podle § 103 stavebního zákona nevyžadující stavební povolení ani ohlášení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lady pro provedení demolic devastovaných nebo nevyužitelných objekt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E380-D4C9-45A0-A7E6-0C224878DF6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odpora úprav bývalých vojenských areálů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k obecnímu využití: Dotační titul č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zev: Aktualizace územně plánovací dokumentace ob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Forma podpory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otace do 75% celk. nákladů v daném roce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limitem dotace min. 100 tis.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edmět dotac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tualizace rozpracované územně plánovací dokumenta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řízení změn platné územně plánovací dokumenta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řízení nové územně plánovací dokumentace – pouze v případě výrazně postižených ob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ílohy žád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klad o vlastnictví majet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86B0-638E-4FCF-91CE-75536E14B07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218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Obnova obecního a krajského majetku postiženého živelní nebo jinou pohromou : Dotační titul č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3628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ce, svazky obcí a kraje, pokud </a:t>
            </a: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byl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jejich území v důsledku živelné pohromy vyhlášen stav nebezpečí nebo nouzový st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cím a svazkům - dotace do 100% celk. nákladů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ajům – dotace do 50% celk. ná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konstrukce nebo opravu majetku obce nebo svazu obcí poškozeného živelní nebo jinou pohromou, popř. na pořízení nového majetku plnícího tutéž funkci, kterou plnil majetek pohromou ničený (jde zejména o mosty, místní komunikace, veřejná prostranství, obecní stavby a zařízení včetně staveb a zařízení preventivní infrastruktu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zn.: Výzva k předkládání žádostí o poskytnutí dotací za škody vzniklé v roce 2008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byla ukončena ke dni 16. února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0B55-035C-4612-A732-9DAC889A00C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otační titul č. 1 - pokrač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362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umentace požadovaná podle zákona   č.183/2006 Sb., o územním plánování a stavebním řádu (stavební zákon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ktová dokumentace zahrnující průvodní zprávu, souhrnnou technickou zprávu a situaci stavby jako součást dokumentace akce včetně náležité fotodokumentace poškozeného majetk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 (položkový rozpočet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vrzení na formuláři „Prohlášení krajského úřadu k žádosti obce (svazku obcí, kraje) o dotace financované z programu 217 117 „Obnova obecního a krajského majetku postiženého živelní nebo jinou pohromou“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0782-1E2B-4AAD-B947-2E21F73C02B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218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Obnova obecního a krajského majetku postiženého živelní nebo jinou pohromou : Dotační titul č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3628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ce, svazky obcí a kraje postižené živelní nebo jinou pohromou, pokud </a:t>
            </a: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neby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ro jejich území v důsledku živelné pohromy vyhlášen stav nebezpečí nebo nouzový st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cím a svazkům - dotace do 80% celk. nákladů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ajům – dotace do 50% celk. ná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konstrukce nebo opravu majetku obce nebo svazu obcí poškozeného živelní nebo jinou pohromou, popř. na pořízení nového majetku plnícího tutéž funkci, kterou plnil majetek pohromou ničený (jde zejména o mosty, místní komunikace, veřejná prostranství, obecní stavby a zařízení včetně staveb a zařízení preventivní infrastruktu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zn.: Výzva k předkládání žádostí o poskytnutí dotací za škody vzniklé v roce 2008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byla ukončena ke dni 16. února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6A1E-DFE2-4000-9332-6A7E0126BBA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otační titul č. 2 - pokrač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362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umentace požadovaná podle zákona   č.183/2006 Sb., o územním plánování a stavebním řádu (stavební zákon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ktová dokumentace zahrnující průvodní zprávu, souhrnnou technickou zprávu a situaci stavby jako součást dokumentace akce včetně náležité fotodokumentace poškozeného majetk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 (položkový rozpočet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vrzení na formuláři „Prohlášení krajského úřadu k žádosti obce (svazku obcí, kraje) o dotace financované z programu 217 117 „Obnova obecního a krajského majetku postiženého živelní nebo jinou pohromou“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A31C-016E-4D3C-A7D2-36945CA1A97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Program – Bezbariérové obce</a:t>
            </a: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075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bce,mě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dotace do 50 % celk. nákladů, dotace s limitem min. 100 tis. K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bezbariérové vstupy do budov městských a obecních úřadů, DPS, výtahy,WC, transportní technologi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68B1-64DD-4D95-9035-24ABFB375DF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785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1. Finanční prostředky na rok 2009</a:t>
            </a: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1844640"/>
          <a:ext cx="8785440" cy="4826160"/>
        </p:xfrm>
        <a:graphic>
          <a:graphicData uri="http://schemas.openxmlformats.org/drawingml/2006/table">
            <a:tbl>
              <a:tblPr/>
              <a:tblGrid>
                <a:gridCol w="5472360"/>
                <a:gridCol w="1657080"/>
                <a:gridCol w="1656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Podpora bydlení (MM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tečnost 2008 v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vrh rozpočtu 2009 v tis. Kč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výstavby technické infrastruktu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 46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výstavby podporovaných byt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12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regenerace panelových sídliš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 66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oprav olověných rozvodů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63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em Podpora bydl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 88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0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4DB2-9BCE-4C7F-A1A5-5684C7FE16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rogram Bezbariérové obce - pokrač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362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 o vlastnictví majet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ová dokumentace zahrnující průvodní zprávu, souhrnnou technickou zprávu a situaci stavby jako součást dokumentace ak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y požadované podle zákona č. 183/2006 Sb., o územním plánování a stavebním řádu (stavební zákon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 o schválení bezbariérové trasy obce Řídícím výborem Národního rozvojového programu mobility pro všechn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válený rozpočet obce v době podání žádost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hlášení o počtu  sociálních nebo zdravotních zařízení zaměřených na péči o osoby s omezenou schopností ohybu a orientace v ob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97CF-D059-4C53-BA4B-DDEBFF118F3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87280" y="2781360"/>
            <a:ext cx="70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98560" y="5345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086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2000" y="224172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2000" y="519444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92000" y="443700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2000" y="299736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63640" y="5661000"/>
            <a:ext cx="676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2000" y="371628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9220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1628640"/>
            <a:ext cx="88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Arial"/>
              </a:rPr>
              <a:t>Termíny MM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24000" y="2708280"/>
            <a:ext cx="82087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hlášení programů na rok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. listopadu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ín ukončení příjmu žádos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řezna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FCBA-8D39-4777-AB66-D372606DCFC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87280" y="2781360"/>
            <a:ext cx="70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98560" y="5345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086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92000" y="224172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92000" y="519444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92000" y="443700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92000" y="299736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63640" y="5661000"/>
            <a:ext cx="676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92000" y="371628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9220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249228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Arial"/>
              </a:rPr>
              <a:t>3. Dotace na územní plány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B9F4-2A2B-45B2-8258-9A5FBF18447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50920" y="5661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4407e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5280" y="1125360"/>
            <a:ext cx="8569440" cy="55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O podporu můžou požádat obce nad 500 obyvatel (včetně), které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plní alespoň jednu z následujících podmíne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bec leží v rozvojových oblastech a osách nebo ve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specifických oblastech vymezených v Politice územního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rozvoje ČR 2006, případně zpřesněných v zásadách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územního rozvoje kraje, neb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inimálně 10 staveb pro bydlení na území obce se nachází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ve stanoveném záplavovém území nebo jejich obytné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místnosti určené pro bydlení byly po 1. lednu 1997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zaplaveny a tyto stavby nemají dosud zajištěnou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protipovodňovou ochranu, neb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bec musí do nového územního plánu zapracovat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rozvojový záměr nadmístního významu obsažený v Politice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územního rozvoje 2006 nebo v územně plánovací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dokumentaci kraje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47628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ce na územní plán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A64F-4F06-46BD-9C36-71185939475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0920" y="5661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4407e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34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Dotace na územní plá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2349360"/>
            <a:ext cx="87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imální výše dotace: 3 mil.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íl spolufinancování: 1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um vyhlášení výzvy: 30.1.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C13C-BC2B-4E6D-B224-8506E6B4E56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Děkuji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79CA-1C70-4E9D-B4FA-D874D2BAE90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9280" y="2421000"/>
            <a:ext cx="896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program zahrnuje věcné podmínky dané nařízením vlády č. 494/2000 Sb., o podmínkách poskytování dotací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e státního rozpočtu na podporu regenerace panelových sídliš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taci může získat obec, na jejímž území se nachází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anelové sídliště (nejméně 150 b.j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ec má schválený územní plán obce a projekt regenera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anelového sídliš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tace může být poskytnuta až do výše 50 % rozpočtovýc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2942" b="0"/>
          <a:stretch/>
        </p:blipFill>
        <p:spPr>
          <a:xfrm>
            <a:off x="0" y="0"/>
            <a:ext cx="9145440" cy="1125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197000"/>
            <a:ext cx="871380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rogram podpora bydlení (MM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dpora regenerace  panelových sídliš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751B-59E7-4E36-A8D0-D227E86DF73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9280" y="2205000"/>
            <a:ext cx="896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odprogram stanovuje podmínky pro poskytování státních dotací na výstavbu dopravní a technické infrastruktury pro následnou výstavbu bytových domů, rodinných domů nebo bytových a rodinných dom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arakter a výše podp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íjemce dotace je o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aximálně 50 tis. Kč na následně vybudovanou bytovou jednot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aximálně 200 tis. EUR na 3 roky – dle pravidla de minimis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tace je poskytována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emní komun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odovodní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an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12942" b="0"/>
          <a:stretch/>
        </p:blipFill>
        <p:spPr>
          <a:xfrm>
            <a:off x="0" y="0"/>
            <a:ext cx="9145440" cy="981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1052640"/>
            <a:ext cx="871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rogram podpora bydlení (MM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dpora výstavby technické infrastruktury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59F0-5B5F-44F2-B831-AAFAFD31CFC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9280" y="2205000"/>
            <a:ext cx="8785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stavba nájemných bytů pro osoby v nepříznivé sociální situaci, jejichž snížená soběstačnost je způsobená věkem nebo zdravotním stavem nebo pro osoby, které v důsledku nepříznivých životních okolností nemají přístup k bydlení a jsou schopné plnit povinnosti vyplývající z nájemného vztah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tační titu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čovatelský byt (PČB) - výše dotace na jednu bytovou jednotku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600 – 650 tis.K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stupní byt (VB) - výše dotace na jednu bytovou jednotku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250 – 650 tis. Kč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arakter podp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aximálně 200 tis. EUR na 3 roky – dle pravidla de mini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íjemce dotace: O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12942" b="0"/>
          <a:stretch/>
        </p:blipFill>
        <p:spPr>
          <a:xfrm>
            <a:off x="0" y="0"/>
            <a:ext cx="9145440" cy="1125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9280" y="1125360"/>
            <a:ext cx="8713800" cy="10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rogram podpora bydlení (MM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dpora výstavby podporovaných byt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F22E-ECDD-4B68-A1EA-6CBF47D6F7F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79280" y="2133720"/>
            <a:ext cx="89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Snížení koncentrace olova v pitné vodě výměnou domovních olověných rozvod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Příjemce dotace: </a:t>
            </a: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Vlastník nebo spoluvlastník domu či bytu v objektu s domovními olověnými rozvod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Charakter dota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10 tisíc Kč na jednu bytovou jednotku, výměna </a:t>
            </a: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 olověných rozvodů musí být provedena v celém domě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Dotace má neinvestiční charak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Maximálně 200 tis. EUR na 3 roky – dle pravidla de</a:t>
            </a: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 minim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0" r="12942" b="0"/>
          <a:stretch/>
        </p:blipFill>
        <p:spPr>
          <a:xfrm>
            <a:off x="0" y="0"/>
            <a:ext cx="9145440" cy="907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9280" y="907920"/>
            <a:ext cx="8713800" cy="10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rogram podpora bydlení (MM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dpora oprav domovních olověných rozvod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BB58-0C66-483B-A05B-97017262F02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87280" y="2781360"/>
            <a:ext cx="70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98560" y="5345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086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000" y="224172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2000" y="519444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2000" y="443700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2000" y="299736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5661000"/>
            <a:ext cx="676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00" y="371628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9220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628640"/>
            <a:ext cx="88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Arial"/>
              </a:rPr>
              <a:t>Termíny MM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4000" y="2708280"/>
            <a:ext cx="82087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yhlášení programů na rok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. listopadu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ín pro předložení žádos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března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B5E-69F7-4E69-B7D0-D09C941631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2:07:40Z</dcterms:created>
  <dc:creator>Martina Přibylová</dc:creator>
  <dc:description/>
  <dc:language>en-US</dc:language>
  <cp:lastModifiedBy>Kamil Jan Svoboda</cp:lastModifiedBy>
  <cp:lastPrinted>2009-01-28T11:06:47Z</cp:lastPrinted>
  <dcterms:modified xsi:type="dcterms:W3CDTF">2009-05-11T21:15:10Z</dcterms:modified>
  <cp:revision>114</cp:revision>
  <dc:subject/>
  <dc:title>Snímek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81128759</vt:r8>
  </property>
  <property fmtid="{D5CDD505-2E9C-101B-9397-08002B2CF9AE}" pid="3" name="_AuthorEmail">
    <vt:lpwstr>Martina.Pribylova@mmr.cz</vt:lpwstr>
  </property>
  <property fmtid="{D5CDD505-2E9C-101B-9397-08002B2CF9AE}" pid="4" name="_AuthorEmailDisplayName">
    <vt:lpwstr>Přibylová Martina</vt:lpwstr>
  </property>
  <property fmtid="{D5CDD505-2E9C-101B-9397-08002B2CF9AE}" pid="5" name="_EmailSubject">
    <vt:lpwstr>Odborná komise pro rozvoj venkova-regionálka a bytovka</vt:lpwstr>
  </property>
  <property fmtid="{D5CDD505-2E9C-101B-9397-08002B2CF9AE}" pid="6" name="_PreviousAdHocReviewCycleID">
    <vt:r8>-1199961724</vt:r8>
  </property>
  <property fmtid="{D5CDD505-2E9C-101B-9397-08002B2CF9AE}" pid="7" name="_ReviewingToolsShownOnce">
    <vt:lpwstr/>
  </property>
</Properties>
</file>