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9439-7AC9-45CE-93BA-ED8E0650AED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Alokace OPŽP 2007-13 byla 4 643 mil. EUR. Pokles alokace OPŽP II na 57%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DC5-DDB6-47E6-83B4-B1BBC8B27A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DDBD-2619-4664-96CE-E4BAFB9F90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F42-7929-4ED8-88E3-BA8947027B4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rtál ISKP14+ je určen pro žadatele/příjemce pro zadávání žádostí o podporu projektu a správu projektů po celou dobu jejich životního cyklu. Žádosti o podporu projektu bude možné zadávat až po vyhlášení výzev operačních programů pro programové období 2014 – 20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Informace pro žadatele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stup (včetně registrace) do Aplikace MS2014+ bude umožněn po finalizaci jednotlivých operačních programů v rámci Dohody o partnerství mezi Českou republikou a Evropskou unií. Následně po vyhlášení výzev bude možné podávat žádosti o podpor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61E4-2C68-4C6C-9298-E4750BF2DE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362C-FD99-41C6-A0CB-0EDA85330C4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0AE1-6DE8-4524-ACD6-B09F676E02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2F60-583F-4513-BAEB-58379CD4ED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27ED-6170-4048-87D8-F3570FAF3E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D506-C889-41D9-9E26-57AACD14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304-E27C-4077-BD7B-A2A8FFB1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B396-F888-4080-B226-28AEBD44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7DFB-3256-4D0C-9D8E-A89A80327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B666-A3D4-49AF-9D11-D13EF3BA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8023-E8E9-4AB4-AB33-AAD968FB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46CC-13CE-471C-9EA5-1BDBA68F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35A6-4E72-4E25-A0F8-FE6EB519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04D-965D-4C5F-AE37-EF699097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F28B-4F0C-4195-828D-3CF60F71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59BC-D7ED-48FA-AA91-58BD75F8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E47-235C-453A-9CEE-77A91A211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E1AC-4A6E-45AB-A819-F6982DC7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45F8-6F8C-41B1-B39B-4718CF2B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7399-4931-498A-9A4F-4625F395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3523-45D2-4C54-B28F-2E3CAB8BE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0832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8640" y="155736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0832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8640" y="3921480"/>
            <a:ext cx="260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361-E829-4819-841B-6D39963D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C75-822C-4517-8587-6EFDE607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D02-2209-4BE3-81E4-C769FA14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440-455D-4437-8BA8-D409E35F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27236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1CB-5CFF-4122-90E2-1495E330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033F-E29C-422B-AFCB-F60B9715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0960" y="392148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6A2E-009F-4D21-9B2E-DD991698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0960" y="1557360"/>
            <a:ext cx="3954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10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5DD0-F29D-448A-9769-38B9C2E2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E456-E6B0-4C42-9593-83B32108305C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1"/>
          <p:cNvSpPr/>
          <p:nvPr/>
        </p:nvSpPr>
        <p:spPr>
          <a:xfrm>
            <a:off x="0" y="0"/>
            <a:ext cx="9144000" cy="1216080"/>
          </a:xfrm>
          <a:prstGeom prst="rect">
            <a:avLst/>
          </a:prstGeom>
          <a:solidFill>
            <a:srgbClr val="0046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Banner_FS_ERDF_RGB_3_horizont"/>
          <p:cNvPicPr/>
          <p:nvPr/>
        </p:nvPicPr>
        <p:blipFill>
          <a:blip r:embed="rId2"/>
          <a:stretch/>
        </p:blipFill>
        <p:spPr>
          <a:xfrm>
            <a:off x="395280" y="1490760"/>
            <a:ext cx="8353440" cy="9302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9"/>
          <p:cNvSpPr/>
          <p:nvPr/>
        </p:nvSpPr>
        <p:spPr>
          <a:xfrm>
            <a:off x="1692360" y="5734080"/>
            <a:ext cx="70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Ministerstvo životního prostředí</a:t>
            </a:r>
            <a:r>
              <a:rPr b="0" lang="cs-CZ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Státní fond životního prostředí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Arial Unicode MS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7927920" y="0"/>
            <a:ext cx="1216080" cy="1216080"/>
          </a:xfrm>
          <a:prstGeom prst="rect">
            <a:avLst/>
          </a:prstGeom>
          <a:solidFill>
            <a:srgbClr val="3f9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12" descr="Mozaika_prezentace.jpg"/>
          <p:cNvPicPr/>
          <p:nvPr/>
        </p:nvPicPr>
        <p:blipFill>
          <a:blip r:embed="rId3"/>
          <a:srcRect l="0" t="0" r="13223" b="0"/>
          <a:stretch/>
        </p:blipFill>
        <p:spPr>
          <a:xfrm>
            <a:off x="0" y="0"/>
            <a:ext cx="7929720" cy="1216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2" marL="123336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416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3949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95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7376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8597-46D8-479F-B4F9-0C9B7F142205}" type="slidenum">
              <a:rPr b="0" lang="cs-CZ" sz="1400" spc="-1" strike="noStrike">
                <a:solidFill>
                  <a:srgbClr val="7376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opzp.cz/obecne-pokyny/dokumenty" TargetMode="External"/><Relationship Id="rId2" Type="http://schemas.openxmlformats.org/officeDocument/2006/relationships/hyperlink" Target="http://www.opzp.cz/vyzvy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24000" y="4436640"/>
            <a:ext cx="835344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39640" y="5084640"/>
            <a:ext cx="3527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 SFŽP Č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08000" y="2565360"/>
            <a:ext cx="88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Operační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cc"/>
                </a:solidFill>
                <a:latin typeface="Arial Unicode MS"/>
              </a:rPr>
              <a:t>Životní prostředí 2014 -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341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1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Prevence vzniku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podporování projektů předcházení vzniku komunálních odpadů a realizace nebo modernizace technologií, jejichž výstupem bude menší množství produkovaných odpadů na jednotku výrobku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2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Zvýšit podíl materiálového a energetického využití odp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výstavba a modernizace zařízení pro sběr, třídění, úpravu, materiálové a energetické využití odpadů a nakládání s nebezpečnými odpady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3.3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Rekultivovat staré skládky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24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 Unicode MS"/>
              </a:rPr>
              <a:t>rekultivace starých skládek technicky nezabezpečených, které byly provozovány před účinností zákona č. 238/1991 Sb.</a:t>
            </a:r>
            <a:endParaRPr b="0" lang="en-US" sz="21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8B38-5A0C-4B85-9836-76DDD89A2706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3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4920" y="1413000"/>
            <a:ext cx="84978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4 </a:t>
            </a:r>
            <a:r>
              <a:rPr b="1" lang="cs-CZ" sz="2800" spc="-1" strike="noStrike">
                <a:solidFill>
                  <a:srgbClr val="000000"/>
                </a:solidFill>
                <a:latin typeface="Arial Unicode MS"/>
              </a:rPr>
              <a:t>Dokončit inventarizaci a odstranit ekologické zátěž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inventarizace kontaminovaných lokalit, realizace doprůzkumů a zpracování analýz rizik a sanace nejvážněji kontaminovaných lokal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3.5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nvironmentální rizika a rozvíjet systémy jejich říz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75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 Unicode MS"/>
              </a:rPr>
              <a:t>realizace komplexní inventarizace všech kontaminovaných a potenciálně kontaminovaných lokalit, jejímž výstupem bude databáze těchto lokalit. Na základě informací získaných o kontaminaci a jejích dopadech budou lokality v databázi kategorizovány do priorit</a:t>
            </a:r>
            <a:endParaRPr b="0" lang="en-US" sz="23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3A89-3A26-48A8-98F6-22020EC57D1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říznivý stav předmětu ochrany národně významných chráněných územ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implementace soustavy Natura 2000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biodiverzitu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speciální péče o vzácné biotopy, jako jsou například rašeliniště, písčiny a stepní biotopy, cílené na zlepšení jejich kvality a druhového složení (včetně omezování invazních a expanzivních druhů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4FE0-13A7-47B7-B93F-ED23EF446B5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4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sílit přirozené funkce krajin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opatření na zprůchodnění migračních bariér pro vybrané druhy živočichů (obojživelníci, chráněné druhy plazů, vydra, bobr, sysel, netopýři), a to zejména na významných tahových cestách obojživelníků a na místech, kde dochází k úhynu kriticky a silně ohrožených druhů apo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4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kvalitu prostředí v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jekty v rámci revitalizace funkčních ploch a prvků sídelní zeleně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5CAC-AB00-414A-AFAD-96C76E749BD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5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1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Snížit energetickou náročnost veřejných budov a zvýšit využití obnovitelných zdrojů energi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celkové nebo dílčí energeticky úsporné renovace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5.2 </a:t>
            </a: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Dosáhnout vysokého energetického standardu nových veřejn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ícenáklady na dosažení pasivního energetického standardu v případě výstavby nových budov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E5C4-0D0D-470D-A69D-8AE1BF49869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1483920"/>
            <a:ext cx="810432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renovace budov památkově chráněných budov dle zákona č. 20/1987 Sb., o státní památkové péči, v platném znění, budou podporovány rovněž dílčí aktivity vedoucí ke snížení energetické náročnosti budovy bez ohledu na dosažení parametrů pro energetickou náročnost budovy dle vyhlášky č. 78/2013 Sb.,            o energetické náročnosti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499"/>
              </a:spcBef>
              <a:spcAft>
                <a:spcPts val="24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 Unicode MS"/>
              </a:rPr>
              <a:t>V rámci připravovaných hodnotících kritérií budou památkově chráněné budovy hodnoceny zvlášť, tzn. že budou nastaveny mírnější bodové hranice než u „standardních“ budov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2A4A-4934-4A49-A93E-7C44CD574CE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Energetické úspory v památkově chráněných budovách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413000"/>
            <a:ext cx="81039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Omezení způsobilých investičních (realizačních) nákladů u vybraných opatření: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Maximální způsobilé výdaje v případě snižování spotřeby energie zlepšením tepelně technických vlastností obvodových konstrukcí budov.</a:t>
            </a: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plocha na systémové hranici budovy. 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 Unicode MS"/>
              </a:rPr>
              <a:t>**možnost uplatnění míry způsobilosti se bude odvíjet od požadavku příslušného orgánu památkové péče. </a:t>
            </a: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330B-50E1-450E-AD6E-28BE614F09C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2349360"/>
          <a:ext cx="7343640" cy="2735280"/>
        </p:xfrm>
        <a:graphic>
          <a:graphicData uri="http://schemas.openxmlformats.org/drawingml/2006/table">
            <a:tbl>
              <a:tblPr/>
              <a:tblGrid>
                <a:gridCol w="4900320"/>
                <a:gridCol w="2443320"/>
              </a:tblGrid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ZATEPLOVANÉ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č bez DPH /m</a:t>
                      </a:r>
                      <a:r>
                        <a:rPr b="1" lang="cs-CZ" sz="1000" spc="-1" strike="noStrike" baseline="30000">
                          <a:solidFill>
                            <a:srgbClr val="000000"/>
                          </a:solidFill>
                          <a:latin typeface="Arial Unicode MS"/>
                        </a:rPr>
                        <a:t>2*</a:t>
                      </a: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440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Obvodové stě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 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332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oché a šikmé střešní konstruk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 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5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Konstrukce k nevytápěným prostorů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půdám, suterénům, ostatním místnoste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odlahy na zemin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 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47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Výplně otvor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 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2960"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Výplně otvorů – památkové chráněné budo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0 000</a:t>
                      </a:r>
                      <a:r>
                        <a:rPr b="1" lang="cs-CZ" sz="1400" spc="-1" strike="noStrike" baseline="30000">
                          <a:solidFill>
                            <a:srgbClr val="ff0000"/>
                          </a:solidFill>
                          <a:latin typeface="Arial Unicode MS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lokace pro jednotlivé prioritní osy pro období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1E8-21FE-484E-A496-4B32503CEA3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619280" y="1557360"/>
          <a:ext cx="5545080" cy="3887640"/>
        </p:xfrm>
        <a:graphic>
          <a:graphicData uri="http://schemas.openxmlformats.org/drawingml/2006/table">
            <a:tbl>
              <a:tblPr/>
              <a:tblGrid>
                <a:gridCol w="2494080"/>
                <a:gridCol w="1544400"/>
                <a:gridCol w="1506600"/>
              </a:tblGrid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Prioritní o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mil. EU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ffffff"/>
                          </a:solidFill>
                          <a:latin typeface="Arial Unicode MS"/>
                          <a:ea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7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3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5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Celkem (vč. T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2 6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Další informace k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ýše podpory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znatelnost náklad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Systém administrace projekt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řílohy k žádosti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Pravidlo N + 3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še je stanoveno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 Unicode MS"/>
              </a:rPr>
              <a:t>v Pravidlech pro žadatele a příjemce</a:t>
            </a: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, které nahrazují stávající ID, ZPŽP, Příručku a Směrnici MŽP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AABD-3C00-41EB-9E9E-F62A4031F65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Informace k MS20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MS2014+ v rámci všech operačních programů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Uživatelé systému neinstalují do počítače žádný program – veškerá administrace probíhá v okně internetového prohlížeče (portál IS KP14+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Elektronické podání žádosti o podporu (prostřednictvím elektronického podpisu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 Unicode MS"/>
              </a:rPr>
              <a:t>Veškerá komunikace mezi uživateli bude probíhat elektronicky (tzv. interní depeše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700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9795-F8DA-4D19-A477-455A80666B9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Konec financování OPŽP 2007-2013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Unicode MS"/>
              </a:rPr>
              <a:t>31.12.2015 = konec způsobilosti výdajů OPŽP 2007-2013 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(tj. datum vystavení faktury </a:t>
            </a:r>
            <a:r>
              <a:rPr b="0" lang="pl-PL" sz="2400" spc="-1" strike="noStrike">
                <a:solidFill>
                  <a:srgbClr val="000000"/>
                </a:solidFill>
                <a:latin typeface="Arial Unicode MS"/>
              </a:rPr>
              <a:t>a datum uhrazení faktury dodavateli musí proběhnout do 31.12.2015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edpokládaný termín pro podání posledních Žádostí o platbu je konec listopadu 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očátkem roku 2016 bude výjimečně možné podat  ŽoP (pouze formou tzv. ex-post platby) na faktury vystavené v 11 – 12/2015 a uhrazené dodavateli do 31.12.2015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 konce roku 2015 je nezbytné vyrovnat veškeré závazky příjemců podpory vůči dodavatelům ve smyslu Závazných pokynů pro žadatele a příjemce podpory, kapitoly „Zásady financování – náležitosti Žádosti o platbu“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D78C-76C6-4BD6-91EC-34FC7B1487D0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0" t="10523" r="1341" b="3178"/>
          <a:stretch/>
        </p:blipFill>
        <p:spPr>
          <a:xfrm>
            <a:off x="357120" y="1341360"/>
            <a:ext cx="7489800" cy="524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8C9-4BD3-49F2-ADF4-6D185655CAB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římá spojnice 5"/>
          <p:cNvSpPr/>
          <p:nvPr/>
        </p:nvSpPr>
        <p:spPr>
          <a:xfrm flipV="1">
            <a:off x="324000" y="134100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římá spojnice 7"/>
          <p:cNvSpPr/>
          <p:nvPr/>
        </p:nvSpPr>
        <p:spPr>
          <a:xfrm>
            <a:off x="324000" y="1341360"/>
            <a:ext cx="7522920" cy="5240520"/>
          </a:xfrm>
          <a:prstGeom prst="line">
            <a:avLst/>
          </a:prstGeom>
          <a:ln cap="rnd"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rcRect l="0" t="10800" r="1281" b="4581"/>
          <a:stretch/>
        </p:blipFill>
        <p:spPr>
          <a:xfrm>
            <a:off x="106200" y="1268280"/>
            <a:ext cx="8498160" cy="541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8CD-D521-4D79-A382-9C0114B37D8E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ek 1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0880" cy="5299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3785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AAAB-BBE3-4BF8-86FF-F8FAA873F23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rázek 2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5240" cy="5464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7" name="Zástupný symbol pro obsah 4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71200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74680"/>
            <a:ext cx="741672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ortál IS KP14+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69" name="Zástupný symbol pro obsah 3" descr="Výřez obrazovky"/>
          <p:cNvPicPr/>
          <p:nvPr/>
        </p:nvPicPr>
        <p:blipFill>
          <a:blip r:embed="rId1"/>
          <a:stretch/>
        </p:blipFill>
        <p:spPr>
          <a:xfrm>
            <a:off x="108000" y="1268280"/>
            <a:ext cx="85773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Webové stránk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3AF0-95B9-45F9-8E76-C63C656B537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rázek 4" descr=""/>
          <p:cNvPicPr/>
          <p:nvPr/>
        </p:nvPicPr>
        <p:blipFill>
          <a:blip r:embed="rId1"/>
          <a:srcRect l="0" t="10615" r="1116" b="3211"/>
          <a:stretch/>
        </p:blipFill>
        <p:spPr>
          <a:xfrm>
            <a:off x="179280" y="126828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01080" cy="1197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Zateplení církevního objektu Sboru Bratrské jednoty baptistů v Chebu,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bor Bratrské jednoty baptistů v Chebu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74" name="Zástupný symbol pro obsah 4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6720" cy="316548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57FE-F8E7-45A8-8D87-43AA6EBBCF93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Obrázek 5" descr=""/>
          <p:cNvPicPr/>
          <p:nvPr/>
        </p:nvPicPr>
        <p:blipFill>
          <a:blip r:embed="rId2"/>
          <a:stretch/>
        </p:blipFill>
        <p:spPr>
          <a:xfrm>
            <a:off x="4500720" y="3375000"/>
            <a:ext cx="4545000" cy="340848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6"/>
          <p:cNvSpPr/>
          <p:nvPr/>
        </p:nvSpPr>
        <p:spPr>
          <a:xfrm>
            <a:off x="4500720" y="1413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eplení obvodových plášťů budovy a střešních konstruk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měna a rekonstrukce otvorových výplní objek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ovéPole 7"/>
          <p:cNvSpPr/>
          <p:nvPr/>
        </p:nvSpPr>
        <p:spPr>
          <a:xfrm>
            <a:off x="0" y="4724280"/>
            <a:ext cx="45007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1 820 397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  829 185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746 266,50 Kč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634 326,52 Kč; SFŽP 111 939,98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7740720" cy="79200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Beskydská Oáza v Písku – realizace úspor energie, </a:t>
            </a:r>
            <a:br>
              <a:rPr sz="2000"/>
            </a:b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žadatel Slezská církev evangelická augsburského vyznání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0" name="Zástupný symbol pro obsah 4" descr=""/>
          <p:cNvPicPr/>
          <p:nvPr/>
        </p:nvPicPr>
        <p:blipFill>
          <a:blip r:embed="rId1"/>
          <a:stretch/>
        </p:blipFill>
        <p:spPr>
          <a:xfrm>
            <a:off x="4859280" y="2119320"/>
            <a:ext cx="3875040" cy="4611600"/>
          </a:xfrm>
          <a:prstGeom prst="rect">
            <a:avLst/>
          </a:prstGeom>
          <a:ln w="0">
            <a:noFill/>
          </a:ln>
        </p:spPr>
      </p:pic>
      <p:sp>
        <p:nvSpPr>
          <p:cNvPr id="181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9F63-98E1-4F9B-B98D-E50B40F9FB0D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Obrázek 5" descr=""/>
          <p:cNvPicPr/>
          <p:nvPr/>
        </p:nvPicPr>
        <p:blipFill>
          <a:blip r:embed="rId2"/>
          <a:stretch/>
        </p:blipFill>
        <p:spPr>
          <a:xfrm>
            <a:off x="108000" y="1352520"/>
            <a:ext cx="3816360" cy="4388040"/>
          </a:xfrm>
          <a:prstGeom prst="rect">
            <a:avLst/>
          </a:prstGeom>
          <a:ln w="0">
            <a:noFill/>
          </a:ln>
        </p:spPr>
      </p:pic>
      <p:sp>
        <p:nvSpPr>
          <p:cNvPr id="183" name="TextovéPole 6"/>
          <p:cNvSpPr/>
          <p:nvPr/>
        </p:nvSpPr>
        <p:spPr>
          <a:xfrm>
            <a:off x="4643280" y="13525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řízení nového kotle na biomasu (peletk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7"/>
          <p:cNvSpPr/>
          <p:nvPr/>
        </p:nvSpPr>
        <p:spPr>
          <a:xfrm>
            <a:off x="395280" y="5732640"/>
            <a:ext cx="468144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     6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 503 55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453 195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428 017,50 Kč; SFŽP 25 177,50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640" y="259920"/>
            <a:ext cx="7272360" cy="70668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Unicode MS"/>
              </a:rPr>
              <a:t>Příklady dobré praxe</a:t>
            </a:r>
            <a:br>
              <a:rPr sz="24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Rekonstrukce zahrady, 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 Unicode MS"/>
              </a:rPr>
              <a:t>žadatel </a:t>
            </a:r>
            <a:r>
              <a:rPr b="1" i="1" lang="cs-CZ" sz="2000" spc="-1" strike="noStrike">
                <a:solidFill>
                  <a:srgbClr val="ffffff"/>
                </a:solidFill>
                <a:latin typeface="Arial Unicode MS"/>
              </a:rPr>
              <a:t>Farní sbor Českobratrské církve evangelické v Táboře</a:t>
            </a:r>
            <a:endParaRPr b="1" lang="en-US" sz="20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86" name="Zástupný symbol pro obsah 4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4859280" cy="4895640"/>
          </a:xfrm>
          <a:prstGeom prst="rect">
            <a:avLst/>
          </a:prstGeom>
          <a:ln w="0">
            <a:noFill/>
          </a:ln>
        </p:spPr>
      </p:pic>
      <p:sp>
        <p:nvSpPr>
          <p:cNvPr id="187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3396-20D4-4A0B-8B4F-968FD6AAB2B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ovéPole 5"/>
          <p:cNvSpPr/>
          <p:nvPr/>
        </p:nvSpPr>
        <p:spPr>
          <a:xfrm>
            <a:off x="5076720" y="1773360"/>
            <a:ext cx="37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pletní obnova travnaté plo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sazení nových stromků a keř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šetření stromů stávající vč. zajištění potřebného zavlaž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ovéPole 6"/>
          <p:cNvSpPr/>
          <p:nvPr/>
        </p:nvSpPr>
        <p:spPr>
          <a:xfrm>
            <a:off x="5076720" y="4076640"/>
            <a:ext cx="3746520" cy="19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ý výdaje projektu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31 898,60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é uznatelné náklad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71 732 K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ýše poskytnuté podpory: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334 037,70 K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FS 283 916,74 Kč; SFŽP 50 120,96 Kč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E1E1-0994-40FB-8CB7-361F3C46A1EF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Děkuji Vám za pozornost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692360" y="5300640"/>
            <a:ext cx="705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átní fond životního prostředí České republiky, Kaplanova 1931/1, 148 00 Praha 1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spondenční a kontaktní adresa: Olbrachtova 2006/9, 140 00  Praha 4,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tel.: +420 267 994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martin.kubica@sfzp.cz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www.opzp.cz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JohnSans Text Pro"/>
              </a:rPr>
              <a:t>  </a:t>
            </a:r>
            <a:r>
              <a:rPr b="1" lang="cs-CZ" sz="1400" spc="-1" strike="noStrike">
                <a:solidFill>
                  <a:srgbClr val="3f9c35"/>
                </a:solidFill>
                <a:latin typeface="Arial Unicode MS"/>
              </a:rPr>
              <a:t>zelená linka 800 260 500</a:t>
            </a:r>
            <a:r>
              <a:rPr b="0" lang="cs-CZ" sz="1200" spc="-1" strike="noStrike">
                <a:solidFill>
                  <a:srgbClr val="73767d"/>
                </a:solidFill>
                <a:latin typeface="JohnSans Text Pro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Wingdings"/>
                <a:ea typeface="Wingdings"/>
              </a:rPr>
              <a:t></a:t>
            </a:r>
            <a:r>
              <a:rPr b="0" lang="cs-CZ" sz="800" spc="-1" strike="noStrike">
                <a:solidFill>
                  <a:srgbClr val="73767d"/>
                </a:solidFill>
                <a:latin typeface="Arial Unicode MS"/>
              </a:rPr>
              <a:t>  </a:t>
            </a:r>
            <a:r>
              <a:rPr b="1" lang="cs-CZ" sz="1400" spc="-1" strike="noStrike">
                <a:solidFill>
                  <a:srgbClr val="0046ad"/>
                </a:solidFill>
                <a:latin typeface="Arial Unicode MS"/>
              </a:rPr>
              <a:t>dotazy@sfzp.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7" descr="SFZP_H_RGB_NEW"/>
          <p:cNvPicPr/>
          <p:nvPr/>
        </p:nvPicPr>
        <p:blipFill>
          <a:blip r:embed="rId1"/>
          <a:srcRect l="0" t="0" r="71719" b="0"/>
          <a:stretch/>
        </p:blipFill>
        <p:spPr>
          <a:xfrm>
            <a:off x="539640" y="5373720"/>
            <a:ext cx="865440" cy="83988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7" descr="Mozaika_prezentac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216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4"/>
          <p:cNvSpPr/>
          <p:nvPr/>
        </p:nvSpPr>
        <p:spPr>
          <a:xfrm>
            <a:off x="1692360" y="4071960"/>
            <a:ext cx="7056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 Unicode MS"/>
              </a:rPr>
              <a:t>Martin Kub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 Unicode MS"/>
              </a:rPr>
              <a:t>náměs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Návaznost OPŽP 2007-13 a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95F3-9AE2-4606-B7F1-B02095A4DE1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95280" y="1341000"/>
            <a:ext cx="82152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ŽP 2014-2020 svým zaměřením navazuje na OPŽP 2007-2013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yužívá získaných zkušeností, které směřují k nastavení efektivního a kvalitního systému podpory ochrany životního prostřed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oproti předchozímu OPŽP 2007-2013 je více koncentrován na identifikované prioritní problémy, zejména v PO 2 (snížení emisí z lokálního vytápění domácností) a PO 5 (snížení energetické náročnosti budov a zvýšení využití obnovitelných zdrojů energi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řípravy na programové období 2014-2020 probíhají v ČR již od roku 2010, v čele procesu přípravy je MM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Zástupný symbol pro číslo snímk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D2BA-899F-495B-A414-A700575B8CB9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13472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Aktuální stav přípravy OPŽP 2014-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393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Dohoda o partnerství – schválena Evropskou komisí 26. 8. 2014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ogramový dokument OPŽP – verze č. 9 schválena Evropskou komisí 30. 4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Pravidla pro žadatele a příjemce – zveřejněna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1"/>
              </a:rPr>
              <a:t>http://www.opzp.cz/obecne-pokyny/dokumenty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zvy včetně HK – zveřejněny n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 Unicode MS"/>
                <a:hlinkClick r:id="rId2"/>
              </a:rPr>
              <a:t>http://www.opzp.cz/vyzvy/</a:t>
            </a: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 algn="just">
              <a:spcBef>
                <a:spcPts val="601"/>
              </a:spcBef>
              <a:spcAft>
                <a:spcPts val="601"/>
              </a:spcAft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Zahájení příjmu žádostí – 14. 8. 2015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y pro období 2014 - 2020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1: Zlepšování kvality vody a snižování rizika povod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2: Zlepšování kvality ovzduší v lidských sídlech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3: Odpady a materiálové toky, ekologické zátěže a rizika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4 : Ochrana a péče o přírodu a kraji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 5: Energetické úspor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9E4B-6FF9-4ED6-AD9E-1E45B2360117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množství vypouštěného znečištění do povrchových i podzemních vod z komunálních zdrojů a vnos znečišťujících látek do povrchových a podzemních vod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kanalizace za předpokladu existence vyhovující čistírny odpadních vod v aglomeraci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dodávky pitné vody v odpovídající jakosti a množstv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75800" indent="-268560">
              <a:spcBef>
                <a:spcPts val="550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 Unicode MS"/>
              </a:rPr>
              <a:t>výstavba a modernizace úpraven vody a zvyšování kvality zdrojů pitné vody včetně výstavby a modernizace systémů (technická opatření) pro ochranu zdrojů pitné vody v jejich bezprostřední blízkosti, sloužící veřejné potřebě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252000" indent="-252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BBAA-748B-4A2D-A347-0A00C5CB1485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1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ajistit povodňovou ochranu intravilánu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hospodaření se srážkovými vodami v intravilánu a jejich další využití namísto jejich urychleného odvádění kanalizací do toků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1.4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Podpořit preventivní protipovodňová opatření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budování a rozšíření varovných, hlásných, předpovědních a výstražných systémů na lokální úrovni, digitální povodňové plán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762B-ABD8-4EC9-91B6-6E97EB6E82AB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1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z lokálního vytápění domácností podílející se na expozici obyvatelstva nadlimitním koncentracím znečišťujících látek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měna kotle na pevná paliva za nový kotel na pevná nebo plynná paliva s minimálními emisemi znečišťujících látek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46600" indent="-2466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2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Snížit emise stacionárních zdrojů podílející se na expozici obyvatelstva nadlimitním koncentracím znečišťujících látek 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759240" indent="-26280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kompletní nebo dílčí náhrada či rekonstrukce stávajících spalovacích a nespalovacích stacionárních zdrojů znečišťování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D95D-F077-4C9F-A355-21DE5555D3E2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272360" cy="706320"/>
          </a:xfrm>
          <a:prstGeom prst="rect">
            <a:avLst/>
          </a:prstGeom>
          <a:solidFill>
            <a:srgbClr val="0046a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 Unicode MS"/>
              </a:rPr>
              <a:t>Prioritní osa 2: Specifické cíle a příklad typu podporovaného projektu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1557360"/>
            <a:ext cx="810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649"/>
              </a:spcBef>
              <a:buClr>
                <a:srgbClr val="0046a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 Unicode MS"/>
              </a:rPr>
              <a:t>2.3 </a:t>
            </a:r>
            <a:r>
              <a:rPr b="1" lang="cs-CZ" sz="2600" spc="-1" strike="noStrike">
                <a:solidFill>
                  <a:srgbClr val="000000"/>
                </a:solidFill>
                <a:latin typeface="Arial Unicode MS"/>
              </a:rPr>
              <a:t>Zlepšit systém sledování, hodnocení a předpovídání vývoje kvality ovzduší a souvisejících meteorologických aspektů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lvl="1" marL="82548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 Unicode MS"/>
              </a:rPr>
              <a:t>výstavba a obnova systémů sledování kvality ovzduší a souvisejících meteorologických aspektů v celorepublikovém či regionálním měřítku (zejména monitorovací sítě, laboratoře, zabezpečení sběru vzorků a přenosu dat, technika pro primární zpracování dat, jejich archivaci a prezentaci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44F6-D0DF-4861-948C-38FAC0EF2CE1}" type="slidenum">
              <a:rPr b="0" lang="cs-CZ" sz="1400" spc="-1" strike="noStrike">
                <a:solidFill>
                  <a:srgbClr val="73767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18:41Z</dcterms:created>
  <dc:creator>Milena Pecnová</dc:creator>
  <dc:description/>
  <dc:language>en-US</dc:language>
  <cp:lastModifiedBy>Capkova Dagmar</cp:lastModifiedBy>
  <dcterms:modified xsi:type="dcterms:W3CDTF">2015-06-24T13:41:02Z</dcterms:modified>
  <cp:revision>90</cp:revision>
  <dc:subject/>
  <dc:title>Snímek 1</dc:title>
</cp:coreProperties>
</file>