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44B16-B95A-4C94-9049-960AA7876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D335B-0F19-4322-AAB9-49D7934B8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97EEE-DB0B-4C1E-8DBE-7A4DCF03D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C6D7B-76F6-48F8-B367-9C2A54714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8DC75-AA70-451E-B5A5-DDB8755D2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E0BB2-07BB-441E-AD0A-AE201B417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55DBB-DDCA-4701-97FF-EC1A44CBB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03052-FEF9-43C2-B622-C3F76D007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01880-7E41-4DBE-9433-1B2B59FF8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7B4D2-658A-476E-9A8B-AB3E406BE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A6E06-540F-464D-A8B9-63F5849CF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5FCD9-572A-4A00-97DF-80B1A13F0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43F36-FF1D-477C-8A3E-5317240C0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CE3FE-79F2-4BFD-93CE-F20E451BC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FF12F-93E4-4D80-A7A0-CAD9079F7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55337-72F4-46C6-989E-235F8850B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876CB-0070-47F4-9B13-BEE269250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18092BA-9358-40CE-A1DB-BAA418D6E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EC597EF-0345-4736-9424-AE45469C9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304E7E-83FC-4595-9FB2-F26EC5EFD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442171D-38BB-42EB-B7A7-2C95F10D0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8772254-2C7D-43BA-BA88-B88193915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FD5A2-80E3-4DCF-A882-AA72E57BE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3711528-2D74-4D79-9F5A-D23A6C15A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C88E9DC-F2BA-4772-814E-87280D2BF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4491BEE-CE0A-4950-9FCA-72AC53BAF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B27E876-E782-4358-B995-A621D6460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6E7225-69EC-401A-A9B8-7262216E3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CD90D8D-BF77-410E-88FA-B68BAB701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6961100-65B3-42E9-A956-7BA1D3744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6ED528-CBD0-4A87-A1C0-3DD414696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1435D1-157D-4BF5-9C75-B920FCB64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EA793A-652A-408D-BA10-BCCFCB6E0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35B75-0E84-4FCD-B3AC-A7C88844D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6D83D2-432D-47FA-AE64-6E74835D4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392E44-201F-4F71-B7D9-E9B979296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4EA00E-9BD9-41E1-B02A-FB4CC9FE4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E39283-6558-4E03-BADA-F09D1A7DA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B360A5-7089-43A6-945C-47EB05A7B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24FC31-A99E-45A9-93B7-0EFE72679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18AF0C-C64D-4BCB-B986-B2F6177B2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27E781-5530-414B-BB70-E485DDAD5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C55657-73D2-4DB6-A894-1A1642073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4275015-0183-4E79-ACFF-61CAC459A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9E937-BC47-46C1-8FEF-639925380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9BFBBC5-6099-4E5E-95F3-A2520806A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AA2671C-60E0-41A9-9943-3F0E36063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0ADFC61-6315-4F17-B4FE-4C5C51D1F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39769B3-8ACD-4129-8FE9-1BD2BE162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9478AE7-3D8F-405B-A5D8-8F2F4A550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80409C7-73DE-40F5-AB50-791837970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1BD4DED-310A-4672-BEB2-B45392BED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E0A288D-5434-492C-8C41-532254C46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B9C5CFC-001E-4853-BE3B-631123913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24975F6-DE50-467B-9044-F783B5948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517D4-BA68-4669-9DE7-4C8CDCDAD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A25B1EE-D969-468D-A671-C8CCBA5BE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BF9A8DB-C0AC-4109-9C44-AE5DA9E03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E5FCDB4-3D71-4152-A2B3-A55D9BD6F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681116B-0B1A-473E-A230-76700BC62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5266B70-99E3-4271-8D48-7A6D032B8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8C12C5F-0843-4A33-BEF0-EE8D9DA03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42D09BF-6DDF-40FC-9853-F7FC8B342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6E1F9CF-5A3F-4BAC-87B5-A5622F690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6946CDB-B66B-4E8D-A7EA-246DDA37F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735951C-BB63-4B3C-A778-04497B5A2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04478-9C24-4E89-8012-48F57F27F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A4F0F90-B6B7-4942-9BB8-2D68A85E9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54167D5-7B8D-4AED-8194-1E969089C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72EDE73-7FEC-44CB-BA50-E89F7171D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B35FB81-3A4C-46A5-ADDE-F9266E7DD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35FCCFA-7A68-4D57-9B19-713D3FC4C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544B4F7-2F82-4A35-B637-2B6A2027F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8419A4F-9945-4B1C-B96E-30110B473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A7C724E-966C-426F-B1D4-CC0E144ED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BF94037-6ADF-4D44-840D-F585B7736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540D2FD-1C64-4DC9-872D-0B67AD9C9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612C0-6DCD-4397-B4E1-50FFB4823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9FA590B-3BED-4821-8236-C435A3165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ACE4996-8688-4DF7-A57F-129041D9D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C8AD0A8-AB9E-41D4-8ECD-D16B8577B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AECFD71-F73E-4317-95AA-53343F891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0C0487D-71FC-416A-AF72-3BF829754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F906B-8FDA-4473-B87F-9C6EAD2AA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římá spojovací čára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římá spojovací čára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římá spojovací čára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Obdélník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Přímá spojovací čára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Elipsa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60443-2BB9-4875-9C2B-1A0FB9CDF822}" type="slidenum">
              <a:rPr b="1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Obdélník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Obdélník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Obdélník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Obdélník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Přímá spojovací čára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Přímá spojovací čára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Přímá spojovací čára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Přímá spojovací čára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Přímá spojovací čára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Přímá spojovací čára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Obdélník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Elipsa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Elipsa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Elipsa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Elipsa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Elipsa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BF413-2683-4443-98BC-97A19686F2C5}" type="slidenum">
              <a:rPr b="1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římá spojovací čára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Přímá spojovací čára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Přímá spojovací čára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Obdélník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Přímá spojovací čára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Elipsa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5447F-0849-4662-8D65-BEF074BD0E2D}" type="slidenum">
              <a:rPr b="1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Obdélník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Obdélník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Obdélník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Obdélník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Přímá spojovací čára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Přímá spojovací čára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Přímá spojovací čára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Přímá spojovací čára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Přímá spojovací čára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Obdélník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Elipsa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Elipsa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Elipsa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Elipsa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Elipsa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Přímá spojovací čára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8A2F7-E21F-4845-B197-F996CAABA8B0}" type="slidenum">
              <a:rPr b="1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římá spojovací čára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Přímá spojovací čára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Přímá spojovací čára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Obdélník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Přímá spojovací čára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Elipsa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AC383-350C-4241-BE78-12258BA6692C}" type="slidenum">
              <a:rPr b="1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římá spojovací čára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Přímá spojovací čára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Přímá spojovací čára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Přímá spojovací čára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Obdélník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Přímá spojovací čára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Elipsa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12F51-1DD7-49D1-8DBD-599FA7C0232A}" type="slidenum">
              <a:rPr b="1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římá spojovací čára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Elipsa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Přímá spojovací čára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Obdélník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Přímá spojovací čára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Přímá spojovací čára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Přímá spojovací čára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B46BA-11F4-4AB7-BB82-4436ACCFE66E}" type="slidenum">
              <a:rPr b="1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s://benefit.kr-kralovehradecky.cz/" TargetMode="External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999800" y="928800"/>
            <a:ext cx="6572520" cy="14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700"/>
            </a:br>
            <a:br>
              <a:rPr sz="2700"/>
            </a:br>
            <a:r>
              <a:rPr b="1" lang="cs-CZ" sz="2700" spc="-1" strike="noStrike">
                <a:solidFill>
                  <a:srgbClr val="575f6d"/>
                </a:solidFill>
                <a:latin typeface="Century Schoolbook"/>
              </a:rPr>
              <a:t>GRANTY A DOTACE KRÁLOVÉHRADECKÉHO KRAJE VYPSANÉ V ROCE 2009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714400" y="2786040"/>
            <a:ext cx="5429160" cy="358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spcAft>
                <a:spcPts val="601"/>
              </a:spcAft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575f6d"/>
                </a:solidFill>
                <a:latin typeface="Century Schoolbook"/>
              </a:rPr>
              <a:t>Cestovní ruch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575f6d"/>
                </a:solidFill>
                <a:latin typeface="Century Schoolbook"/>
              </a:rPr>
              <a:t>Kultura a památková péče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575f6d"/>
                </a:solidFill>
                <a:latin typeface="Century Schoolbook"/>
              </a:rPr>
              <a:t>Obce a mikroregiony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575f6d"/>
                </a:solidFill>
                <a:latin typeface="Century Schoolbook"/>
              </a:rPr>
              <a:t>Sociální oblast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575f6d"/>
                </a:solidFill>
                <a:latin typeface="Century Schoolbook"/>
              </a:rPr>
              <a:t>Školství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575f6d"/>
                </a:solidFill>
                <a:latin typeface="Century Schoolbook"/>
              </a:rPr>
              <a:t>Volnočasové aktivity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575f6d"/>
                </a:solidFill>
                <a:latin typeface="Century Schoolbook"/>
              </a:rPr>
              <a:t>Životní prostředí a zemědělství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575f6d"/>
                </a:solidFill>
                <a:latin typeface="Century Schoolbook"/>
              </a:rPr>
              <a:t>Mezinárodní spolupráce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500" spc="-1" strike="noStrike">
                <a:solidFill>
                  <a:srgbClr val="575f6d"/>
                </a:solidFill>
                <a:latin typeface="Century Schoolbook"/>
              </a:rPr>
              <a:t>ŠKOLSTVÍ</a:t>
            </a:r>
            <a:endParaRPr b="0" lang="en-US" sz="25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456840" y="1214280"/>
            <a:ext cx="7615080" cy="52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entury Schoolbook"/>
              </a:rPr>
              <a:t>OBLAST PREVENCE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entury Schoolbook"/>
              </a:rPr>
              <a:t>OBLAST VZDĚLÁVÁNÍ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entury Schoolbook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387" name=""/>
          <p:cNvGraphicFramePr/>
          <p:nvPr/>
        </p:nvGraphicFramePr>
        <p:xfrm>
          <a:off x="2714760" y="3714840"/>
          <a:ext cx="3214440" cy="579240"/>
        </p:xfrm>
        <a:graphic>
          <a:graphicData uri="http://schemas.openxmlformats.org/drawingml/2006/table">
            <a:tbl>
              <a:tblPr/>
              <a:tblGrid>
                <a:gridCol w="1606320"/>
                <a:gridCol w="1608120"/>
              </a:tblGrid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88" name=""/>
          <p:cNvGraphicFramePr/>
          <p:nvPr/>
        </p:nvGraphicFramePr>
        <p:xfrm>
          <a:off x="714240" y="5072040"/>
          <a:ext cx="7358040" cy="579600"/>
        </p:xfrm>
        <a:graphic>
          <a:graphicData uri="http://schemas.openxmlformats.org/drawingml/2006/table">
            <a:tbl>
              <a:tblPr/>
              <a:tblGrid>
                <a:gridCol w="5357880"/>
                <a:gridCol w="2000160"/>
              </a:tblGrid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Žádosti musí být nově vyplňovány na oficiálním formuláři v systému Benefit (</a:t>
            </a:r>
            <a:r>
              <a:rPr b="0" lang="cs-CZ" sz="2400" spc="-1" strike="noStrike" u="sng">
                <a:solidFill>
                  <a:srgbClr val="d2611c"/>
                </a:solidFill>
                <a:uFillTx/>
                <a:latin typeface="Century Schoolbook"/>
                <a:hlinkClick r:id="rId1"/>
              </a:rPr>
              <a:t>https://benefit.kr-kralovehradecky.cz</a:t>
            </a:r>
            <a:r>
              <a:rPr b="0" lang="cs-CZ" sz="2400" spc="-1" strike="noStrike">
                <a:solidFill>
                  <a:srgbClr val="000000"/>
                </a:solidFill>
                <a:latin typeface="Century Schoolbook"/>
              </a:rPr>
              <a:t>) do určeného data a zároveň musí být písemná finalizovaná podoba žádosti spolu s přílohami zaslána v daném termínu na příslušné oddělení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575f6d"/>
                </a:solidFill>
                <a:latin typeface="Century Schoolbook"/>
              </a:rPr>
              <a:t>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graphicFrame>
        <p:nvGraphicFramePr>
          <p:cNvPr id="354" name=""/>
          <p:cNvGraphicFramePr/>
          <p:nvPr/>
        </p:nvGraphicFramePr>
        <p:xfrm>
          <a:off x="500040" y="1954080"/>
          <a:ext cx="7467480" cy="903600"/>
        </p:xfrm>
        <a:graphic>
          <a:graphicData uri="http://schemas.openxmlformats.org/drawingml/2006/table">
            <a:tbl>
              <a:tblPr/>
              <a:tblGrid>
                <a:gridCol w="6286680"/>
                <a:gridCol w="1180800"/>
              </a:tblGrid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3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Minimální výše podpory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3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100.000,- Kč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Maximální výše podpory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500.000,- Kč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31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Maximální možný podíl podpory na celkových přijatelných nákladech projektu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7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</a:tbl>
          </a:graphicData>
        </a:graphic>
      </p:graphicFrame>
      <p:sp>
        <p:nvSpPr>
          <p:cNvPr id="355" name="Nadpis 1"/>
          <p:cNvSpPr/>
          <p:nvPr/>
        </p:nvSpPr>
        <p:spPr>
          <a:xfrm>
            <a:off x="457200" y="274680"/>
            <a:ext cx="7467480" cy="7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r>
              <a:rPr b="1" lang="cs-CZ" sz="2500" spc="-1" strike="noStrike">
                <a:solidFill>
                  <a:srgbClr val="575f6d"/>
                </a:solidFill>
                <a:latin typeface="Century Schoolbook"/>
              </a:rPr>
              <a:t>CESTOVNÍ  RUCH</a:t>
            </a:r>
            <a:endParaRPr b="0" lang="en-US" sz="25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356" name=""/>
          <p:cNvGraphicFramePr/>
          <p:nvPr/>
        </p:nvGraphicFramePr>
        <p:xfrm>
          <a:off x="500040" y="4346640"/>
          <a:ext cx="7358040" cy="868320"/>
        </p:xfrm>
        <a:graphic>
          <a:graphicData uri="http://schemas.openxmlformats.org/drawingml/2006/table">
            <a:tbl>
              <a:tblPr/>
              <a:tblGrid>
                <a:gridCol w="6215040"/>
                <a:gridCol w="1143000"/>
              </a:tblGrid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3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Minimální výše podpor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3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20.000,- Kč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Maximální výše podpor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00.000,- Kč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Maximální možný podíl podpory na celkových přijatelných nákladech projektu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7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</a:tbl>
          </a:graphicData>
        </a:graphic>
      </p:graphicFrame>
      <p:sp>
        <p:nvSpPr>
          <p:cNvPr id="357" name="Zástupný symbol pro obsah 2"/>
          <p:cNvSpPr/>
          <p:nvPr/>
        </p:nvSpPr>
        <p:spPr>
          <a:xfrm>
            <a:off x="428760" y="1500120"/>
            <a:ext cx="7543800" cy="48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entury Schoolbook"/>
              </a:rPr>
              <a:t>ÚPRAVA LYŽAŘSKÝCH BĚŽECKÝCH TRAS (</a:t>
            </a:r>
            <a:r>
              <a:rPr b="1" lang="cs-CZ" sz="2200" spc="-1" strike="noStrike">
                <a:solidFill>
                  <a:srgbClr val="000000"/>
                </a:solidFill>
                <a:latin typeface="Century Schoolbook"/>
              </a:rPr>
              <a:t>CRG012009)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entury Schoolbook"/>
              </a:rPr>
              <a:t>POŘÁDÁNÍ PREZENTAČNĚ-PROPAGAČNÍCH AKCÍ V OBLASTI CESTOVNÍHO RUCHU (</a:t>
            </a:r>
            <a:r>
              <a:rPr b="1" lang="cs-CZ" sz="2200" spc="-1" strike="noStrike">
                <a:solidFill>
                  <a:srgbClr val="000000"/>
                </a:solidFill>
                <a:latin typeface="Century Schoolbook"/>
              </a:rPr>
              <a:t>CRG032009)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entury Schoolbook"/>
              </a:rPr>
              <a:t>Uzávěrka příjmu žádostí do těchto grantových programů byla 30.4. 2009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700"/>
            </a:br>
            <a:r>
              <a:rPr b="1" lang="cs-CZ" sz="27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1" lang="cs-CZ" sz="2500" spc="-1" strike="noStrike">
                <a:solidFill>
                  <a:srgbClr val="575f6d"/>
                </a:solidFill>
                <a:latin typeface="Century Schoolbook"/>
              </a:rPr>
              <a:t>KULTURA A PAMÁTKOVÁ PÉČE …1</a:t>
            </a:r>
            <a:br>
              <a:rPr sz="2500"/>
            </a:br>
            <a:r>
              <a:rPr b="1" lang="cs-CZ" sz="1300" spc="-1" strike="noStrike">
                <a:solidFill>
                  <a:srgbClr val="575f6d"/>
                </a:solidFill>
                <a:latin typeface="Century Schoolbook"/>
              </a:rPr>
              <a:t>(Již uzavřeno)</a:t>
            </a:r>
            <a:endParaRPr b="0" lang="en-US" sz="13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456840" y="1600200"/>
            <a:ext cx="76150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spcAft>
                <a:spcPts val="1199"/>
              </a:spcAft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entury Schoolbook"/>
              </a:rPr>
              <a:t>PODPORA A ROZVOJ PROFESIONÁLNÍCH I NEPROFESIONÁLNÍCH KULTURNÍCH AKTIVIT (</a:t>
            </a:r>
            <a:r>
              <a:rPr b="1" lang="cs-CZ" sz="2200" spc="-1" strike="noStrike">
                <a:solidFill>
                  <a:srgbClr val="000000"/>
                </a:solidFill>
                <a:latin typeface="Century Schoolbook"/>
              </a:rPr>
              <a:t>KPG012009</a:t>
            </a:r>
            <a:r>
              <a:rPr b="0" lang="cs-CZ" sz="2200" spc="-1" strike="noStrike">
                <a:solidFill>
                  <a:srgbClr val="000000"/>
                </a:solidFill>
                <a:latin typeface="Century Schoolbook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spcAft>
                <a:spcPts val="601"/>
              </a:spcAft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1199"/>
              </a:spcBef>
              <a:spcAft>
                <a:spcPts val="601"/>
              </a:spcAft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1199"/>
              </a:spcBef>
              <a:spcAft>
                <a:spcPts val="601"/>
              </a:spcAft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entury Schoolbook"/>
              </a:rPr>
              <a:t>OBNOVA PAMÁTKOVÉHO FONDU NA ÚZEMÍ KRÁLOVÉHRADECKÉHO KRAJE (</a:t>
            </a:r>
            <a:r>
              <a:rPr b="1" lang="cs-CZ" sz="2200" spc="-1" strike="noStrike">
                <a:solidFill>
                  <a:srgbClr val="000000"/>
                </a:solidFill>
                <a:latin typeface="Century Schoolbook"/>
              </a:rPr>
              <a:t>KPG022009</a:t>
            </a:r>
            <a:r>
              <a:rPr b="0" lang="cs-CZ" sz="2200" spc="-1" strike="noStrike">
                <a:solidFill>
                  <a:srgbClr val="000000"/>
                </a:solidFill>
                <a:latin typeface="Century Schoolbook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1199"/>
              </a:spcBef>
              <a:spcAft>
                <a:spcPts val="601"/>
              </a:spcAft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1199"/>
              </a:spcBef>
              <a:spcAft>
                <a:spcPts val="601"/>
              </a:spcAft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1199"/>
              </a:spcBef>
              <a:spcAft>
                <a:spcPts val="601"/>
              </a:spcAft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1199"/>
              </a:spcBef>
              <a:spcAft>
                <a:spcPts val="601"/>
              </a:spcAft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spcAft>
                <a:spcPts val="601"/>
              </a:spcAft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360" name=""/>
          <p:cNvGraphicFramePr/>
          <p:nvPr/>
        </p:nvGraphicFramePr>
        <p:xfrm>
          <a:off x="642960" y="2786040"/>
          <a:ext cx="7286760" cy="868320"/>
        </p:xfrm>
        <a:graphic>
          <a:graphicData uri="http://schemas.openxmlformats.org/drawingml/2006/table">
            <a:tbl>
              <a:tblPr/>
              <a:tblGrid>
                <a:gridCol w="6005520"/>
                <a:gridCol w="1281240"/>
              </a:tblGrid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3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Minimální výše dotac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3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10.000,- Kč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Maximální výše dotac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250.000,- Kč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Maximální možný podíl dotace na celkových nákladech projektu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7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642960" y="4786200"/>
          <a:ext cx="7286760" cy="1528920"/>
        </p:xfrm>
        <a:graphic>
          <a:graphicData uri="http://schemas.openxmlformats.org/drawingml/2006/table">
            <a:tbl>
              <a:tblPr/>
              <a:tblGrid>
                <a:gridCol w="2714760"/>
                <a:gridCol w="3000240"/>
                <a:gridCol w="1571760"/>
              </a:tblGrid>
              <a:tr h="3610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3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Minimální možný podíl vlastníka na celkových nákladech projektu</a:t>
                      </a:r>
                      <a:r>
                        <a:rPr b="1" lang="cs-CZ" sz="13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	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3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rozpětí možné dotace v Kč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3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minimální podí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Movitá kulturní památk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25.000 - 300.0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3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Nemovitá kulturní památk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50.000 - 500.0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13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Objekt v PR, PZ, OP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50.000 - 300.0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700"/>
            </a:br>
            <a:r>
              <a:rPr b="1" lang="cs-CZ" sz="27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1" lang="cs-CZ" sz="2500" spc="-1" strike="noStrike">
                <a:solidFill>
                  <a:srgbClr val="575f6d"/>
                </a:solidFill>
                <a:latin typeface="Century Schoolbook"/>
              </a:rPr>
              <a:t>KULTURA A PAMÁTKOVÁ PÉČE …2</a:t>
            </a:r>
            <a:br>
              <a:rPr sz="2500"/>
            </a:br>
            <a:r>
              <a:rPr b="1" lang="cs-CZ" sz="1300" spc="-1" strike="noStrike">
                <a:solidFill>
                  <a:srgbClr val="575f6d"/>
                </a:solidFill>
                <a:latin typeface="Century Schoolbook"/>
              </a:rPr>
              <a:t>(Již uzavřeno)</a:t>
            </a:r>
            <a:endParaRPr b="0" lang="en-US" sz="13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457200" y="1600200"/>
            <a:ext cx="775800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spcAft>
                <a:spcPts val="601"/>
              </a:spcAft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entury Schoolbook"/>
              </a:rPr>
              <a:t>PODPORA PUBLIKAČNÍ ČINNOSTI A LITERATURY (</a:t>
            </a:r>
            <a:r>
              <a:rPr b="1" lang="cs-CZ" sz="2000" spc="-1" strike="noStrike">
                <a:solidFill>
                  <a:srgbClr val="000000"/>
                </a:solidFill>
                <a:latin typeface="Century Schoolbook"/>
              </a:rPr>
              <a:t>KPG032009</a:t>
            </a:r>
            <a:r>
              <a:rPr b="0" lang="cs-CZ" sz="2000" spc="-1" strike="noStrike">
                <a:solidFill>
                  <a:srgbClr val="000000"/>
                </a:solidFill>
                <a:latin typeface="Century Schoolbook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spcAft>
                <a:spcPts val="601"/>
              </a:spcAft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spcAft>
                <a:spcPts val="601"/>
              </a:spcAft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1199"/>
              </a:spcBef>
              <a:spcAft>
                <a:spcPts val="601"/>
              </a:spcAft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1199"/>
              </a:spcBef>
              <a:spcAft>
                <a:spcPts val="601"/>
              </a:spcAft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1199"/>
              </a:spcBef>
              <a:spcAft>
                <a:spcPts val="601"/>
              </a:spcAft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entury Schoolbook"/>
              </a:rPr>
              <a:t>OBNOVA HISTORICKÝCH VARHAN (</a:t>
            </a:r>
            <a:r>
              <a:rPr b="1" lang="cs-CZ" sz="2000" spc="-1" strike="noStrike">
                <a:solidFill>
                  <a:srgbClr val="000000"/>
                </a:solidFill>
                <a:latin typeface="Century Schoolbook"/>
              </a:rPr>
              <a:t>KPG042009</a:t>
            </a:r>
            <a:r>
              <a:rPr b="0" lang="cs-CZ" sz="2000" spc="-1" strike="noStrike">
                <a:solidFill>
                  <a:srgbClr val="000000"/>
                </a:solidFill>
                <a:latin typeface="Century Schoolbook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1199"/>
              </a:spcBef>
              <a:spcAft>
                <a:spcPts val="601"/>
              </a:spcAft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1199"/>
              </a:spcBef>
              <a:spcAft>
                <a:spcPts val="601"/>
              </a:spcAft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1199"/>
              </a:spcBef>
              <a:spcAft>
                <a:spcPts val="601"/>
              </a:spcAft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1199"/>
              </a:spcBef>
              <a:spcAft>
                <a:spcPts val="601"/>
              </a:spcAft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364" name=""/>
          <p:cNvGraphicFramePr/>
          <p:nvPr/>
        </p:nvGraphicFramePr>
        <p:xfrm>
          <a:off x="714240" y="2071800"/>
          <a:ext cx="7286760" cy="868320"/>
        </p:xfrm>
        <a:graphic>
          <a:graphicData uri="http://schemas.openxmlformats.org/drawingml/2006/table">
            <a:tbl>
              <a:tblPr/>
              <a:tblGrid>
                <a:gridCol w="6005520"/>
                <a:gridCol w="1281240"/>
              </a:tblGrid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3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Minimální výše dotac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3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10.000,- Kč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Maximální výše dotac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00.000,- Kč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Maximální možný podíl dotace na celkových nákladech projektu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3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65" name=""/>
          <p:cNvGraphicFramePr/>
          <p:nvPr/>
        </p:nvGraphicFramePr>
        <p:xfrm>
          <a:off x="714240" y="4643280"/>
          <a:ext cx="7286760" cy="868680"/>
        </p:xfrm>
        <a:graphic>
          <a:graphicData uri="http://schemas.openxmlformats.org/drawingml/2006/table">
            <a:tbl>
              <a:tblPr/>
              <a:tblGrid>
                <a:gridCol w="6000840"/>
                <a:gridCol w="1285920"/>
              </a:tblGrid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3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Minimální výše dotac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3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100.000,- Kč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Maximální výše dotac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500.000,- Kč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Maximální možný podíl dotace na celkových nákladech projektu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7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700"/>
            </a:br>
            <a:r>
              <a:rPr b="1" lang="cs-CZ" sz="27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1" lang="cs-CZ" sz="2500" spc="-1" strike="noStrike">
                <a:solidFill>
                  <a:srgbClr val="575f6d"/>
                </a:solidFill>
                <a:latin typeface="Century Schoolbook"/>
              </a:rPr>
              <a:t>KULTURA A PAMÁTKOVÁ PÉČE …3</a:t>
            </a:r>
            <a:br>
              <a:rPr sz="2500"/>
            </a:br>
            <a:r>
              <a:rPr b="1" lang="cs-CZ" sz="1300" spc="-1" strike="noStrike">
                <a:solidFill>
                  <a:srgbClr val="575f6d"/>
                </a:solidFill>
                <a:latin typeface="Century Schoolbook"/>
              </a:rPr>
              <a:t>(Již uzavřeno)</a:t>
            </a:r>
            <a:endParaRPr b="0" lang="en-US" sz="13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456840" y="1600200"/>
            <a:ext cx="76150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just">
              <a:spcBef>
                <a:spcPts val="601"/>
              </a:spcBef>
              <a:spcAft>
                <a:spcPts val="601"/>
              </a:spcAft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entury Schoolbook"/>
              </a:rPr>
              <a:t>PODPORA NEMOVITÝCH OBJEKTŮ HISTORICKÉ HODNOTY A UMĚLECKO-ŘEMESLNÝCH DĚL, KTERÉ NEJSOU KULTURNÍ PAMÁTKOU (</a:t>
            </a:r>
            <a:r>
              <a:rPr b="1" lang="cs-CZ" sz="2000" spc="-1" strike="noStrike">
                <a:solidFill>
                  <a:srgbClr val="000000"/>
                </a:solidFill>
                <a:latin typeface="Century Schoolbook"/>
              </a:rPr>
              <a:t>KPG052009</a:t>
            </a:r>
            <a:r>
              <a:rPr b="0" lang="cs-CZ" sz="2000" spc="-1" strike="noStrike">
                <a:solidFill>
                  <a:srgbClr val="000000"/>
                </a:solidFill>
                <a:latin typeface="Century Schoolbook"/>
              </a:rPr>
              <a:t> )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1199"/>
              </a:spcBef>
              <a:spcAft>
                <a:spcPts val="601"/>
              </a:spcAft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1199"/>
              </a:spcBef>
              <a:spcAft>
                <a:spcPts val="601"/>
              </a:spcAft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1199"/>
              </a:spcBef>
              <a:spcAft>
                <a:spcPts val="601"/>
              </a:spcAft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spcAft>
                <a:spcPts val="601"/>
              </a:spcAft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368" name=""/>
          <p:cNvGraphicFramePr/>
          <p:nvPr/>
        </p:nvGraphicFramePr>
        <p:xfrm>
          <a:off x="571680" y="3000240"/>
          <a:ext cx="7286400" cy="949320"/>
        </p:xfrm>
        <a:graphic>
          <a:graphicData uri="http://schemas.openxmlformats.org/drawingml/2006/table">
            <a:tbl>
              <a:tblPr/>
              <a:tblGrid>
                <a:gridCol w="2714400"/>
                <a:gridCol w="3000600"/>
                <a:gridCol w="1571400"/>
              </a:tblGrid>
              <a:tr h="36540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3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Minimální možný podíl vlastníka na celkových nákladech projektu</a:t>
                      </a:r>
                      <a:r>
                        <a:rPr b="1" lang="cs-CZ" sz="13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	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3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rozpětí možné podpory v Kč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3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minimální podí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Nemovitá věc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50.000 - 250.0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5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500" spc="-1" strike="noStrike">
                <a:solidFill>
                  <a:srgbClr val="575f6d"/>
                </a:solidFill>
                <a:latin typeface="Century Schoolbook"/>
              </a:rPr>
              <a:t>OBCE A MIKROREGIONY …1</a:t>
            </a:r>
            <a:endParaRPr b="0" lang="en-US" sz="25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456840" y="1214280"/>
            <a:ext cx="7615080" cy="52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entury Schoolbook"/>
              </a:rPr>
              <a:t>Uzávěrka sběru žádostí do vyhlášených programů byla 16. 4. 2009, s výjimkou grantu RRD062009 Podpora provozu cyklobusů v turistických regionech, u kterého byla uzávěrka 25. 3. 2009. 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entury Schoolbook"/>
              </a:rPr>
              <a:t>PROFESIONALIZACE SVAZKŮ OBCÍ (</a:t>
            </a:r>
            <a:r>
              <a:rPr b="1" lang="cs-CZ" sz="2200" spc="-1" strike="noStrike">
                <a:solidFill>
                  <a:srgbClr val="000000"/>
                </a:solidFill>
                <a:latin typeface="Century Schoolbook"/>
              </a:rPr>
              <a:t>RRD022009</a:t>
            </a:r>
            <a:r>
              <a:rPr b="0" lang="cs-CZ" sz="2200" spc="-1" strike="noStrike">
                <a:solidFill>
                  <a:srgbClr val="000000"/>
                </a:solidFill>
                <a:latin typeface="Century Schoolbook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entury Schoolbook"/>
              </a:rPr>
              <a:t>POŘÍZENÍ, AKTUALIZACE A DIGITALIZACE ÚZEMNÍCH PLÁNŮ OBCÍ DO 2000 OBYVATEL (</a:t>
            </a:r>
            <a:r>
              <a:rPr b="1" lang="cs-CZ" sz="2200" spc="-1" strike="noStrike">
                <a:solidFill>
                  <a:srgbClr val="000000"/>
                </a:solidFill>
                <a:latin typeface="Century Schoolbook"/>
              </a:rPr>
              <a:t>RRD032009</a:t>
            </a:r>
            <a:r>
              <a:rPr b="0" lang="cs-CZ" sz="2200" spc="-1" strike="noStrike">
                <a:solidFill>
                  <a:srgbClr val="000000"/>
                </a:solidFill>
                <a:latin typeface="Century Schoolbook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371" name=""/>
          <p:cNvGraphicFramePr/>
          <p:nvPr/>
        </p:nvGraphicFramePr>
        <p:xfrm>
          <a:off x="714240" y="2857680"/>
          <a:ext cx="7358040" cy="731520"/>
        </p:xfrm>
        <a:graphic>
          <a:graphicData uri="http://schemas.openxmlformats.org/drawingml/2006/table">
            <a:tbl>
              <a:tblPr/>
              <a:tblGrid>
                <a:gridCol w="3286440"/>
                <a:gridCol w="4071600"/>
              </a:tblGrid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3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Maximální výše podpory (obec může být zařazena pro účely dotace pouze v jednom svazku obcí)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k x počet obyvatel + 80 000;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k = hustota obyvatelstva na území kraje/ hustota obyvatelstva na území svazku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72" name=""/>
          <p:cNvGraphicFramePr/>
          <p:nvPr/>
        </p:nvGraphicFramePr>
        <p:xfrm>
          <a:off x="642960" y="4786200"/>
          <a:ext cx="7429320" cy="949320"/>
        </p:xfrm>
        <a:graphic>
          <a:graphicData uri="http://schemas.openxmlformats.org/drawingml/2006/table">
            <a:tbl>
              <a:tblPr/>
              <a:tblGrid>
                <a:gridCol w="5929200"/>
                <a:gridCol w="1500120"/>
              </a:tblGrid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3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Minimální výše podpory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3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není stanoven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3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Maximální výše podpory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200.000,- Kč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36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3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Maximální možný podíl podpory na celkových nákladech projektu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3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40%</a:t>
                      </a:r>
                      <a:r>
                        <a:rPr b="0" lang="cs-CZ" sz="13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500" spc="-1" strike="noStrike">
                <a:solidFill>
                  <a:srgbClr val="575f6d"/>
                </a:solidFill>
                <a:latin typeface="Century Schoolbook"/>
              </a:rPr>
              <a:t>OBCE A MIKROREGIONY …2</a:t>
            </a:r>
            <a:endParaRPr b="0" lang="en-US" sz="25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456840" y="1214280"/>
            <a:ext cx="7615080" cy="52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67120" indent="-26712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entury Schoolbook"/>
              </a:rPr>
              <a:t>VYBAVENÍ SVAZKŮ OBCÍ ZÁKLADNÍ TECHNIKOU (</a:t>
            </a:r>
            <a:r>
              <a:rPr b="1" lang="cs-CZ" sz="2000" spc="-1" strike="noStrike">
                <a:solidFill>
                  <a:srgbClr val="000000"/>
                </a:solidFill>
                <a:latin typeface="Century Schoolbook"/>
              </a:rPr>
              <a:t>RRD042009</a:t>
            </a:r>
            <a:r>
              <a:rPr b="0" lang="cs-CZ" sz="2000" spc="-1" strike="noStrike">
                <a:solidFill>
                  <a:srgbClr val="000000"/>
                </a:solidFill>
                <a:latin typeface="Century Schoolbook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entury Schoolbook"/>
              </a:rPr>
              <a:t>PODPORA PROVOZU CYKLOBUSŮ V TURISTICKÝCH REGIONECH (</a:t>
            </a:r>
            <a:r>
              <a:rPr b="1" lang="cs-CZ" sz="2000" spc="-1" strike="noStrike">
                <a:solidFill>
                  <a:srgbClr val="000000"/>
                </a:solidFill>
                <a:latin typeface="Century Schoolbook"/>
              </a:rPr>
              <a:t>RRD062009</a:t>
            </a:r>
            <a:r>
              <a:rPr b="0" lang="cs-CZ" sz="2000" spc="-1" strike="noStrike">
                <a:solidFill>
                  <a:srgbClr val="000000"/>
                </a:solidFill>
                <a:latin typeface="Century Schoolbook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entury Schoolbook"/>
              </a:rPr>
              <a:t>PODPORA CYKLODOPRAVY V NÁVAZNOSTI NA KONCEPCI CYKLODOPRAVY KRÁLOVÉHRADECKÉHO KRAJE (</a:t>
            </a:r>
            <a:r>
              <a:rPr b="1" lang="cs-CZ" sz="2000" spc="-1" strike="noStrike">
                <a:solidFill>
                  <a:srgbClr val="000000"/>
                </a:solidFill>
                <a:latin typeface="Century Schoolbook"/>
              </a:rPr>
              <a:t>RRD072009A</a:t>
            </a:r>
            <a:r>
              <a:rPr b="0" lang="cs-CZ" sz="2000" spc="-1" strike="noStrike">
                <a:solidFill>
                  <a:srgbClr val="000000"/>
                </a:solidFill>
                <a:latin typeface="Century Schoolbook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entury Schoolbook"/>
              </a:rPr>
              <a:t>STEZKY PRO REKREAČNÍ A TERÉNNÍ CYKLISTIKU - SINGLTREKY (</a:t>
            </a:r>
            <a:r>
              <a:rPr b="1" lang="cs-CZ" sz="2000" spc="-1" strike="noStrike">
                <a:solidFill>
                  <a:srgbClr val="000000"/>
                </a:solidFill>
                <a:latin typeface="Century Schoolbook"/>
              </a:rPr>
              <a:t>RRD072009B</a:t>
            </a:r>
            <a:r>
              <a:rPr b="0" lang="cs-CZ" sz="2000" spc="-1" strike="noStrike">
                <a:solidFill>
                  <a:srgbClr val="000000"/>
                </a:solidFill>
                <a:latin typeface="Century Schoolbook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375" name=""/>
          <p:cNvGraphicFramePr/>
          <p:nvPr/>
        </p:nvGraphicFramePr>
        <p:xfrm>
          <a:off x="714240" y="1616040"/>
          <a:ext cx="7358040" cy="884160"/>
        </p:xfrm>
        <a:graphic>
          <a:graphicData uri="http://schemas.openxmlformats.org/drawingml/2006/table">
            <a:tbl>
              <a:tblPr/>
              <a:tblGrid>
                <a:gridCol w="6000840"/>
                <a:gridCol w="135720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3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Minimální výše podpory - mikroregiony od 2.500 obyvate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50.000,- K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Maximální výše podpory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200.000,- Kč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Maximální možný podíl podpory na celkových nákladech projektu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5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76" name=""/>
          <p:cNvGraphicFramePr/>
          <p:nvPr/>
        </p:nvGraphicFramePr>
        <p:xfrm>
          <a:off x="714240" y="3500280"/>
          <a:ext cx="7358040" cy="1067040"/>
        </p:xfrm>
        <a:graphic>
          <a:graphicData uri="http://schemas.openxmlformats.org/drawingml/2006/table">
            <a:tbl>
              <a:tblPr/>
              <a:tblGrid>
                <a:gridCol w="6000840"/>
                <a:gridCol w="1357200"/>
              </a:tblGrid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3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Minimální výše podpory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3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250.000,- Kč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Maximální výše podpory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není stanovena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Maximální možný podíl podpory na celkových přijatelných nákladech projektu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9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500" spc="-1" strike="noStrike">
                <a:solidFill>
                  <a:srgbClr val="575f6d"/>
                </a:solidFill>
                <a:latin typeface="Century Schoolbook"/>
              </a:rPr>
              <a:t>OBCE A MIKROREGIONY …3</a:t>
            </a:r>
            <a:endParaRPr b="0" lang="en-US" sz="25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456840" y="1214280"/>
            <a:ext cx="7615080" cy="52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entury Schoolbook"/>
              </a:rPr>
              <a:t>PODPORA CYKLODOPRAVY V NÁVAZNOSTI NA KONCEPCI CYKLODOPRAVY KRÁLOVÉHRADECKÉHO KRAJE (</a:t>
            </a:r>
            <a:r>
              <a:rPr b="1" lang="cs-CZ" sz="2000" spc="-1" strike="noStrike">
                <a:solidFill>
                  <a:srgbClr val="000000"/>
                </a:solidFill>
                <a:latin typeface="Century Schoolbook"/>
              </a:rPr>
              <a:t>RRD072009A</a:t>
            </a:r>
            <a:r>
              <a:rPr b="0" lang="cs-CZ" sz="2000" spc="-1" strike="noStrike">
                <a:solidFill>
                  <a:srgbClr val="000000"/>
                </a:solidFill>
                <a:latin typeface="Century Schoolbook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entury Schoolbook"/>
              </a:rPr>
              <a:t>STEZKY PRO REKREAČNÍ A TERÉNNÍ CYKLISTIKU - SINGLTREKY (</a:t>
            </a:r>
            <a:r>
              <a:rPr b="1" lang="cs-CZ" sz="2000" spc="-1" strike="noStrike">
                <a:solidFill>
                  <a:srgbClr val="000000"/>
                </a:solidFill>
                <a:latin typeface="Century Schoolbook"/>
              </a:rPr>
              <a:t>RRD072009B</a:t>
            </a:r>
            <a:r>
              <a:rPr b="0" lang="cs-CZ" sz="2000" spc="-1" strike="noStrike">
                <a:solidFill>
                  <a:srgbClr val="000000"/>
                </a:solidFill>
                <a:latin typeface="Century Schoolbook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379" name=""/>
          <p:cNvGraphicFramePr/>
          <p:nvPr/>
        </p:nvGraphicFramePr>
        <p:xfrm>
          <a:off x="642960" y="2143080"/>
          <a:ext cx="7358040" cy="593640"/>
        </p:xfrm>
        <a:graphic>
          <a:graphicData uri="http://schemas.openxmlformats.org/drawingml/2006/table">
            <a:tbl>
              <a:tblPr/>
              <a:tblGrid>
                <a:gridCol w="6000840"/>
                <a:gridCol w="135720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3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Minimální výše podpor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50.000,- K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3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Maximální výše podpory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není stanovena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80" name=""/>
          <p:cNvGraphicFramePr/>
          <p:nvPr/>
        </p:nvGraphicFramePr>
        <p:xfrm>
          <a:off x="642960" y="4214880"/>
          <a:ext cx="7358040" cy="579240"/>
        </p:xfrm>
        <a:graphic>
          <a:graphicData uri="http://schemas.openxmlformats.org/drawingml/2006/table">
            <a:tbl>
              <a:tblPr/>
              <a:tblGrid>
                <a:gridCol w="6000840"/>
                <a:gridCol w="1357200"/>
              </a:tblGrid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3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Minimální výše podpory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3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50.000,- Kč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Maximální výše podpory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740.000,- Kč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500" spc="-1" strike="noStrike">
                <a:solidFill>
                  <a:srgbClr val="575f6d"/>
                </a:solidFill>
                <a:latin typeface="Century Schoolbook"/>
              </a:rPr>
              <a:t>SOCIÁLNÍ OBLAST</a:t>
            </a:r>
            <a:endParaRPr b="0" lang="en-US" sz="25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456840" y="1214280"/>
            <a:ext cx="7615080" cy="525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entury Schoolbook"/>
              </a:rPr>
              <a:t>DOTACE POSKYTOVATELŮM SOCIÁLNÍCH SLUŽEB V KRAJI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Century Schoolbook"/>
              </a:rPr>
              <a:t>dle § 101 zákona č. 108/2006 Sb , o sociálních službách, ve znění pozdějších předpisů.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entury Schoolbook"/>
              </a:rPr>
              <a:t>Finanční prostředky na 1. splátku dotace z celkového objemu dotací na rok 2009 byly poslány na konci března 2009 z Krajského úřadu Královéhradeckého kraje.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entury Schoolbook"/>
              </a:rPr>
              <a:t>Tuto splátku MPSV ČR vypočetlo následovně: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383" name=""/>
          <p:cNvGraphicFramePr/>
          <p:nvPr/>
        </p:nvGraphicFramePr>
        <p:xfrm>
          <a:off x="2643120" y="3286080"/>
          <a:ext cx="3214800" cy="579600"/>
        </p:xfrm>
        <a:graphic>
          <a:graphicData uri="http://schemas.openxmlformats.org/drawingml/2006/table">
            <a:tbl>
              <a:tblPr/>
              <a:tblGrid>
                <a:gridCol w="1606680"/>
                <a:gridCol w="1608120"/>
              </a:tblGrid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3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Dotace 200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3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228.034.000,- Kč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. splátk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01.268.350,- Kč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84" name=""/>
          <p:cNvGraphicFramePr/>
          <p:nvPr/>
        </p:nvGraphicFramePr>
        <p:xfrm>
          <a:off x="714240" y="4643280"/>
          <a:ext cx="7358040" cy="746280"/>
        </p:xfrm>
        <a:graphic>
          <a:graphicData uri="http://schemas.openxmlformats.org/drawingml/2006/table">
            <a:tbl>
              <a:tblPr/>
              <a:tblGrid>
                <a:gridCol w="5357880"/>
                <a:gridCol w="200016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domovy pro seniory, domovy pro osoby se zdravotním postižením, domovy se zvláštním režimem a týdenní stacionář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50% z přidělené dota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Ostatní služb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35% z přidělené dota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0T16:23:20Z</dcterms:created>
  <dc:creator>Stanislav Javůrek</dc:creator>
  <dc:description/>
  <dc:language>en-US</dc:language>
  <cp:lastModifiedBy>Stanislav Javůrek</cp:lastModifiedBy>
  <dcterms:modified xsi:type="dcterms:W3CDTF">2009-05-10T18:38:42Z</dcterms:modified>
  <cp:revision>17</cp:revision>
  <dc:subject/>
  <dc:title>Snímek 1</dc:title>
</cp:coreProperties>
</file>