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2148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4F0-25B8-41D7-A35C-37BD4CE9A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AF8-1833-4035-8985-CEFEA92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1B7D-BE1C-483A-8067-1BD22CFD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6B5-CFC9-4B68-BD19-9ADAA942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2D3-D681-49E1-9B3E-C1DF66F7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EA1-620F-4774-BB2E-EB15B39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79B-F811-47E3-BFBD-C117793C6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E708-58D3-41C5-8969-C358413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4B20-D9C7-44D2-B169-04E3D08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C41-7201-4081-83EA-5119508C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1BA8-E6D8-4A11-8F17-3CD71665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009-B3A7-4712-A62B-AE54E6DF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1EB5-82AB-4E82-A45A-E5875A734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557360"/>
            <a:ext cx="9144000" cy="37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Legislativa v bytové obla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1FBF-72A5-4D61-96CA-6082477D9E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67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 nového zákona o vlastnictví byt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občanský zákoník - návrh nove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ého kodex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zajištění zdrojů - návrh novely zák. o rozpočtovém určení daní - připravuje 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- návrh novely zákona o Fondu - vratky dotací -   připravuje s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ávrhy nařízení vlády k jednotlivým novým podpůrným nástrojům - budou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řipravovány podle projektu nových opatření k podpoře investic do bydlen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novela zák. č. 107/2006 Sb.- prodloužení cílového stavu deregulace do r. 201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oznámky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</a:rPr>
              <a:t>Pro jednání vlády: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říprava „Návrh Aktualizace nástrojů bytové politiky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6000" y="981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Legislativní opatř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195-4220-45B3-9BF8-53E8E5573FC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424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ácen k dopracování dle připomínek členů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Legislativní rady vlády, návrh  je dopracováv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ílem je upřesnění vlastnictví, způsoby hlasování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orgánů výboru společenství  vlastníků a umožnění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hlasování „per rollam“ – zkvalitnění funkce SVJ,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snížení negativních vlivů pasivního chování členů SV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6286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ávrh nového zákona o vlastnictví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721-B653-4642-A9B6-1542B58F811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806436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návrh novely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 oblasti nájmu bytů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edloženo do Legislativní rady vlád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ákladem je posílení postavení vlastníka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ílení smluvní volnosti účastníků nájemního vztah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končení regulace nájemného a nástup režimu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stanovení nájemného dohod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říslušnost soudu ve sporech o výši nájemného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možnost stanovení výše nájemného soudem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mezení přechodu nájmu po smrti nájem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16000" y="1484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E4F-E07D-425B-8AEC-7334644CB6F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DE91-0DC6-4C00-B4FA-430CB7D14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9:09Z</cp:lastPrinted>
  <dcterms:modified xsi:type="dcterms:W3CDTF">2009-05-11T21:14:13Z</dcterms:modified>
  <cp:revision>83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99961724</vt:r8>
  </property>
  <property fmtid="{D5CDD505-2E9C-101B-9397-08002B2CF9AE}" pid="3" name="_AuthorEmail">
    <vt:lpwstr>Marcela.Pavlova@mmr.cz</vt:lpwstr>
  </property>
  <property fmtid="{D5CDD505-2E9C-101B-9397-08002B2CF9AE}" pid="4" name="_AuthorEmailDisplayName">
    <vt:lpwstr>Pavlová Marcela</vt:lpwstr>
  </property>
  <property fmtid="{D5CDD505-2E9C-101B-9397-08002B2CF9AE}" pid="5" name="_EmailSubject">
    <vt:lpwstr>Žádost o přípravu prezentace</vt:lpwstr>
  </property>
  <property fmtid="{D5CDD505-2E9C-101B-9397-08002B2CF9AE}" pid="6" name="_PreviousAdHocReviewCycleID">
    <vt:r8>-665579781</vt:r8>
  </property>
  <property fmtid="{D5CDD505-2E9C-101B-9397-08002B2CF9AE}" pid="7" name="_ReviewingToolsShownOnce">
    <vt:lpwstr/>
  </property>
</Properties>
</file>