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B057-8528-4051-961B-F99A30BC3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9FE5-5B7B-4F26-B946-8A98469B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41FC-3DFD-40C3-8865-1FBB3C46D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BFBA-EF9A-4E8E-A8FE-A7FDA3FBE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9A9E-346F-4B61-9BBC-FCEC7350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AB4E-F491-4B31-BF86-4CFAB034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9674-4C3B-4589-BF17-74CD96D1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FCF3-3ECB-4286-9683-DD1533DC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7668-F6AA-4C1C-96F9-CBE70F22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73D0-C6EA-4F78-8598-1B667F7A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BEEF-E1A8-4B58-8732-294BA007F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55D4-600A-4AAA-A87E-A16BBABA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B5CF-E8F6-4D19-9721-2BAFD1411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mmr.cz/uploads/MMR_Temata/REGIONALNI_POLITIKA/Programy_Dotace_RP/081201_zasady_POV.pdf" TargetMode="External"/><Relationship Id="rId2" Type="http://schemas.openxmlformats.org/officeDocument/2006/relationships/hyperlink" Target="http://www.mmr.cz/uploads/MMR_Temata/REGIONALNI_POLITIKA/Programy_Dotace_RP/081201_zasady_VA.pdf" TargetMode="External"/><Relationship Id="rId3" Type="http://schemas.openxmlformats.org/officeDocument/2006/relationships/hyperlink" Target="http://www.mmr.cz/uploads/MMR_Temata/REGIONALNI_POLITIKA/Programy_Dotace_RP/080318_Zasady_217117.doc" TargetMode="External"/><Relationship Id="rId4" Type="http://schemas.openxmlformats.org/officeDocument/2006/relationships/hyperlink" Target="http://www.mmr.cz/uploads/MMR_Temata/REGIONALNI_POLITIKA/Programy_Dotace_RP/081201_zasady_BO.pdf" TargetMode="Externa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981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50920" y="566100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4407e"/>
                </a:solidFill>
                <a:latin typeface="Arial"/>
                <a:ea typeface="ＭＳ Ｐゴシック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28640"/>
            <a:ext cx="9144000" cy="42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onzultace pro starosty a místostaros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Dotační programy MMR ČR v oblasti bytové a regionální politi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AAB0-3D91-40B2-8DEE-C5B9A605B7E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765000"/>
            <a:ext cx="878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2. Finanční prostředky na rok 2009</a:t>
            </a: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79280" y="2276640"/>
          <a:ext cx="8785440" cy="2941560"/>
        </p:xfrm>
        <a:graphic>
          <a:graphicData uri="http://schemas.openxmlformats.org/drawingml/2006/table">
            <a:tbl>
              <a:tblPr/>
              <a:tblGrid>
                <a:gridCol w="5472360"/>
                <a:gridCol w="1944720"/>
                <a:gridCol w="1368360"/>
              </a:tblGrid>
              <a:tr h="130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podpora bydlení (SFR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tečnost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mil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zpočet 200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mil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a rekonstrukcí panelových bytových domů (program „PANEL“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5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věry mladým domácnostem na pořízení by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0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4493-0182-40D8-84BB-62AA5FC904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79280" y="2421000"/>
            <a:ext cx="8785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cílem je podpora celkové rekonstrukce a zateplení, prodloužení</a:t>
            </a:r>
            <a:br>
              <a:rPr sz="2200"/>
            </a:b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 životnosti, modernizace, zvýšení standardu bydlení, nikoliv </a:t>
            </a:r>
            <a:br>
              <a:rPr sz="2200"/>
            </a:b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 pouze jednotlivé oprav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odmínky  - nař. vlády č. 299/2001 Sb. – všem vlastníkům </a:t>
            </a:r>
            <a:br>
              <a:rPr sz="2200"/>
            </a:b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 panelových bytů a dom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úroková dotace ve výši 2 procentních bodů po dobu splácení </a:t>
            </a:r>
            <a:br>
              <a:rPr sz="2200"/>
            </a:b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 úvěru, max. 15 l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bankovní záruka za splácení úvěrů (ČMZRB, a.s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informační a poradenská střediska poskytnou metodickou </a:t>
            </a:r>
            <a:br>
              <a:rPr sz="2200"/>
            </a:b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 pomo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0" t="0" r="12942" b="0"/>
          <a:stretch/>
        </p:blipFill>
        <p:spPr>
          <a:xfrm>
            <a:off x="0" y="0"/>
            <a:ext cx="9145440" cy="907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79280" y="981000"/>
            <a:ext cx="8713800" cy="17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rogram podpora bydlení (SFRB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odpora rekonstrukcí panelových bytových domů (program „PANEL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667B-9988-458F-ADF7-2814D93C328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79280" y="2276280"/>
            <a:ext cx="8964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úvěr do výše 300 000 Kč splatný do 20 let, fixní úrok 2 % p.a.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po celou dobu spláce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 samotná osoba pečující alespoň o jedno nezletilé dítě, která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v roce podání žádosti nedovrší 36 let věku nebo manželé,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z nichž alespoň jeden splňuje toto věkové kriter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 na koupi bytu nebo rod. domku s 1 by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 na výstavbu bytu nebo rod. domku s 1 by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 na získání družstevního bytu převodem členských práv nebo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úhradou členského vklad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 narodí-li se dítě v průběhu splácení úvěru, Fond sníží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nesplacenou část jistiny o 30 000 Kč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12942" b="0"/>
          <a:stretch/>
        </p:blipFill>
        <p:spPr>
          <a:xfrm>
            <a:off x="0" y="0"/>
            <a:ext cx="9145440" cy="1125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9280" y="1197000"/>
            <a:ext cx="8713800" cy="17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rogram podpora bydlení (SFRB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Úvěry mladým domácnostem na pořízení by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C302-80E3-4C00-803A-05B7B5075FC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79280" y="1916280"/>
            <a:ext cx="89647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Nová opatření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(s platností od roku 2010, budou-li  na ně finanční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              prostředky)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odpora výstavby nájemních bytů - formou garancí SFR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odpora výstavby sociálních bytů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ovozní podpora pronajímatelů sociálních bytů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odpora výstavby a rekonstrukcí technické infrastruktury – formou garancí SFR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ozšíření programu PANEL na nepanelové dom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557360"/>
            <a:ext cx="842472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9280" y="155736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Nové nástroje podpory investic do bydl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1E21-EF9F-42BF-909C-2D6C8DCA01D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42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2852280"/>
            <a:ext cx="8136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íl:  podpora orientace podnikatelských záměrů na výstavbu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    nájemních bytů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orma podpory: záruky za dlouhodobé úvěry cestou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garančních nástrojů SFR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říjemci podpory: jakákoliv právnická nebo fyzická osob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vropský kontext: nezbytná notifikace u Evropské komi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557360"/>
            <a:ext cx="842472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39640" y="14842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a)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  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Podpora výstavby nájemních bytů – formou garancí SF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21CB-96FF-437A-B891-6BB43342A0F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42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1360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íl: podpora výstavby malých a dostupných bytů pro tu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kupinu obyvatel, která si není schopna z důvodů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ízkého příjmu pořídit bydlen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ílová skupina: domácnosti s vymezeným příjme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orma podpory: investiční dotace na výstavbu nájemních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ytů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říjemci podpory: jakákoli právnická nebo fyzická osob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vropský kontext: nezbytná notifikace u Evropské komi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1557360"/>
            <a:ext cx="842472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39640" y="14842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b)   Podpora výstavby sociálních byt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10D7-9602-4B20-B07F-3A4ECA3DA98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42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2276640"/>
            <a:ext cx="8280360" cy="45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íl: využít již existujících bytů pro bydlení sociálně potřebných osob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ílová skupina: domácnosti, které nejsou schopné hradit zvýšené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ájemné a nemohou z objektivních důvodů (věk, zdravotní stav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apod.)  přizpůsobit bydlení svým příjmovým možnoste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forma podpory: provozní podpora poskytovaná pronajímateli,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kompenzující rozdíl mezi dosavadní úrovní nájemného a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úrovní v místě a čase obvyklo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říjemci podpory: pronajímatelé na základě smlouvy mezi obcí a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ronajímatele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vropský kontext: není třeba notifikova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1557360"/>
            <a:ext cx="842472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1197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39640" y="1197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c)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  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Provozní podpora pronajímatelů sociálních bytů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968B-FEF3-4238-8A47-B3B1092143D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42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799128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cíl: rozšíření nabídky zainvestovaných pozemků pro 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následnou výstavbu bytových a rodinných domů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forma podpory: záruky za dlouhodobé úvěry cestou 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garančních nástrojů SFR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příjemci podpory: jakákoli právnická nebo fyzická osob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Evropský kontext: nezbytná notifikace u Evropské komis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1557360"/>
            <a:ext cx="842472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39640" y="14842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d)  Podpora výstavby a rekonstrukcí technické infrastruktury – formou garancí SF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5125-8E38-4CF6-9E0B-0F2A7242926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42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7991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íl: zajištění rovného nediskriminačního přístupu vlastníků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   domů pro bydlení ke státní podpoře, stimulace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   komplexní rekonstrukce bytových domů, podpora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   energetických úsp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orma podpory: úroková dotace k bankovnímu úvěr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říjemci podpory: vlastníci bytových domů postavených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jakoukoli stavební technologi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vropský kontext: nezbytná notifikace u Evropské komis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1557360"/>
            <a:ext cx="842472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9640" y="14842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e)  Rozšíření programu PANEL na nepanelové d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124F-BBEA-4CFB-BD8C-D9A697CB744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87280" y="2781360"/>
            <a:ext cx="702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98560" y="5345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0086"/>
                </a:solidFill>
                <a:latin typeface="Arial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92000" y="224172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000" y="519444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000" y="443700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92000" y="299736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63640" y="5661000"/>
            <a:ext cx="676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2000" y="371628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92200" y="3232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2492280"/>
            <a:ext cx="8820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3880" indent="-62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0000"/>
                </a:solidFill>
                <a:latin typeface="Arial"/>
              </a:rPr>
              <a:t>2. Programy v oblasti regionální politiky pro rok 2009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2B2A-D8B2-48DD-9963-63F50A7BB3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981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914400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Obsah prezentac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566100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4407e"/>
                </a:solidFill>
                <a:latin typeface="Arial"/>
                <a:ea typeface="ＭＳ Ｐゴシック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y v oblasti bytové politik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y v oblasti regionální politi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tace na územní plá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1126-AF0E-4F75-A569-1CF977D588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Národní programy v roce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rogram obnovy venko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ásady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mr.cz/uploads/MMR_Temata/REGIONALNI_POLITIKA/Programy_Dotace_RP/081201_zasady_POV.pd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Podpora úprav bývalých vojenských areálů k obecnímu využit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ásady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mr.cz/uploads/MMR_Temata/REGIONALNI_POLITIKA/Programy_Dotace_RP/081201_zasady_VA.pd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Obnova obecního a krajského majetku postiženého živelní nebo jinou pohrom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ásady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mmr.cz/uploads/MMR_Temata/REGIONALNI_POLITIKA/Programy_Dotace_RP/080318_Zasady_217117.doc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Bezbariérové obce – nový pro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ásady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mmr.cz/uploads/MMR_Temata/REGIONALNI_POLITIKA/Programy_Dotace_RP/081201_zasady_BO.pdf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9" descr=""/>
          <p:cNvPicPr/>
          <p:nvPr/>
        </p:nvPicPr>
        <p:blipFill>
          <a:blip r:embed="rId5"/>
          <a:srcRect l="0" t="0" r="12951" b="0"/>
          <a:stretch/>
        </p:blipFill>
        <p:spPr>
          <a:xfrm>
            <a:off x="0" y="0"/>
            <a:ext cx="9144000" cy="54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D417-F7A4-4127-84F4-A41D12727D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280" y="765000"/>
            <a:ext cx="878544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Finanční prostředky na rok 2009</a:t>
            </a: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79280" y="1844640"/>
          <a:ext cx="8785440" cy="4392720"/>
        </p:xfrm>
        <a:graphic>
          <a:graphicData uri="http://schemas.openxmlformats.org/drawingml/2006/table">
            <a:tbl>
              <a:tblPr/>
              <a:tblGrid>
                <a:gridCol w="5472360"/>
                <a:gridCol w="1944720"/>
                <a:gridCol w="136836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tečnost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vrh rozpočtu 200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a úprav bývalých vojenských areálů k obecnímu využit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a obnovy venko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nova obecního a krajského majetku postiženého živelní nebo jinou pohromou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zbariérové ob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ový program)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2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9A18-4079-43B3-AA9B-3C48C36101F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Program obnovy venkova: </a:t>
            </a:r>
            <a:br>
              <a:rPr sz="3400"/>
            </a:b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Dotační titul č. 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ázev: Podpora vítězů soutěže Vesnice rok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říjemci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Forma podpor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tace do výše 80% celk. přímých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ředmět dota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nova a údržba venkovské zástavby a občanské vybavenost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nova a zřizování veřejné zeleně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konstrukce a výstavba místních komunikací, stezek a veřejného osvětlen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prava a realizace propagačních materiálů obce v souvislosti s umístěním v soutěži Vesnice ro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8D61-D826-4507-BE15-09C17107A9D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Dotační titul č. 1 - pokračování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3628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 Přílohy 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lad o vlastnictví majetk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 akcí stavebního charakter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části projektové dokumentace zahrnující průvodní zprávu, souhrnnou technickou zprávu a situaci stavby jako součást dokumentace akc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edpokládaný rozpočet akce podrobněji členěný podle věcných polože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lady požadované podle zákona č. 183/2006 Sb., o územním plánování a stavebním řádu (stavební zákon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de-li o stavby, terénní úpravy zařízení a udržovací práce podle § 103 stavebního zákona nevyžadující stavební povolení ani ohlášení, doloží se pouze soulad akce, pro niž je požadována dotace, se schválenou územně plánovací dokument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FC1E-7BE2-4566-8CCC-543ADBA0997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Program obnovy venkova: </a:t>
            </a:r>
            <a:br>
              <a:rPr sz="3400"/>
            </a:b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Dotační titul č. 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820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ázev: Podpora zapojení  dětí a mládeže do komunitního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života v obci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říjemci: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ce do 3000 obyvatel, svazky ob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Forma podpor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dotace do 70% celk. přímých nákladů s limitem dotace min. 50 tis. Kč, max. 300 tis. K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ředmět dota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udou podporovány akce s výstupy sloužícími převážně dětem a mládeži, na jejichž výběru a přípravě (resp. realizaci) se děti a mládež prokazatelně podílely (resp. budou podílet), a které jsou zaměřené 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novu a údržbu venkovské zástavby a občanské vybavenost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pravu veřejných prostranství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novu a zřizování veřejné zeleně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konstrukci nebo vybudování zařízení pro volnočasové aktiv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F03E-3212-431A-9E69-0C7F448A800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Dotační titul č. 2 - pokračování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362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 Přílohy žá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klad o vlastnictví majetk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is přípravy akce, zapojení dětí a mládeže včetně obrazové dokumentace, harmonogram akce a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 akcí stavebního charakter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části projektové dokumentace zahrnující průvodní zprávu, souhrnnou technickou zprávu a situaci stavby jako součást dokumentace akc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edpokládaný rozpočet akce podrobněji členěný podle věcných polože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klady požadované podle zákona č. 183/2006 Sb., o územním plánování a stavebním řádu (stavební zákon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de-li o stavby, terénní úpravy zařízení a udržovací práce podle § 103 stavebního zákona nevyžadující stavební povolení ani ohlášení, doloží se pouze soulad akce, pro niž je požadována dotace, se schválenou územně plánovací dokument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A4F3-94C0-45DC-A012-FF4F4AA2F1A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Program obnovy venkova: </a:t>
            </a:r>
            <a:br>
              <a:rPr sz="3400"/>
            </a:b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Dotační titul č. 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6868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6504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700" spc="-1" strike="noStrike">
                <a:solidFill>
                  <a:srgbClr val="000000"/>
                </a:solidFill>
                <a:latin typeface="Arial"/>
              </a:rPr>
              <a:t>Název: Podpora spolupráce obcí na obnově a rozvoji venkova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36504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íjemci: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ce do 3000 obyvatel, svazky ob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36504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orma podpor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tace do 70% celkových přímých nákladů s limitem dotace max. 200 tis. Kč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36504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edmět dot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65040"/>
                <a:tab algn="l" pos="44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kce nadregionálního významu zaměřené 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255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365040"/>
                <a:tab algn="l" pos="44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ezentace úspěšných projektů zaměřených na obnovu a rozvoj venkov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255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365040"/>
                <a:tab algn="l" pos="44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měna zkušeností při přípravě projektů zaměřených na obnovu a rozvoj venkov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-255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365040"/>
                <a:tab algn="l" pos="44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pora spolupráce a odborného vzdělávání zástupců obcí zaměřeného na obnovu a rozvoj venk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65040"/>
                <a:tab algn="l" pos="44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98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DBEE-4651-426A-B2CF-3A16DD6963D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Dotační titul č. 3 - pokračování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362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 Přílohy žá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klad o vlastnictví majetk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is akce, její cíle at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 akcí stavebního charakter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části projektové dokumentace zahrnující průvodní zprávu, souhrnnou technickou zprávu a situaci stavby jako součást dokumentace akc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edpokládaný rozpočet akce podrobněji členěný podle věcných polože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klady požadované podle zákona č. 183/2006 Sb., o územním plánování a stavebním řádu (stavební zákon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de-li o stavby, terénní úpravy zařízení a udržovací práce podle § 103 stavebního zákona nevyžadující stavební povolení ani ohlášení, doloží se pouze soulad akce, pro niž je požadována dotace, se schválenou územně plánovací dokument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28E3-9426-47B5-A3BF-624D9E27B83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6868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Program obnovy venkova: Dotační titul č.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362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ázev: Podpora obnovy drobných sakrálních staveb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obcí (nový dotační titu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íjemci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obce do 3000 obyvatel, svazek obc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orma podpor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dotace do 70% celk. nákladů s limitem dotace min. 50 tis. Kč, max. 400 tis. Kč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edmět dot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udou podporovány akce zaměřené na obnovu sakrálních staveb nalézajících se v katastrálním území obce, které nejsou prohlášeny kulturním památkou a jsou v majetku obce. Jedná se zejména o obnovu staveb jak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kaple, kaplička, socha, boží muka, kříž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úprava prostranství v okolí drobných sakrálních stave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1CA0-85E4-4412-B347-2425F7A61CA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Dotační titul č. 4 - pokračová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3628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 Přílohy 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pis akce, harmonogram akce (termín realizace akce, termín závěrečného vyhodnocení akce) apod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části projektové dokumentace zahrnující průvodní zprávu, souhrnnou technickou zprávu a situaci stavby jako součást dokumentace akce (podle charakteru stavby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edpokládaný rozpočet akce podrobněji členěný podle věcných polože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lady požadované podle zákona č. 183/2006 Sb., o územním plánování a stavebním řádu v části čtvrté: Stavební řád (podle charakteru stavby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klad o vlastnictví majetku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B0EB-112E-4C2F-99D7-9169846E2A1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87280" y="2781360"/>
            <a:ext cx="702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8560" y="5345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0086"/>
                </a:solidFill>
                <a:latin typeface="Arial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92000" y="224172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92000" y="519444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2000" y="443700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92000" y="299736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5661000"/>
            <a:ext cx="676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92000" y="371628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92200" y="3232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2492280"/>
            <a:ext cx="8820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3880" indent="-62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0000"/>
                </a:solidFill>
                <a:latin typeface="Arial"/>
              </a:rPr>
              <a:t>1. Programy v oblasti bytové politiky pro rok 2009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0BDE-B08D-4B26-9412-747342EA98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1471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Program obnovy venkova: </a:t>
            </a:r>
            <a:br>
              <a:rPr sz="3600"/>
            </a:b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Dotační titul č.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5075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ázev: Podpora zapojení rómské komunity do života 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obce a společnosti (nový dotační titu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íjemci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obce do 3000 obyvatel, které mají min. 4 % romského etni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orma podpor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dotace do 70% celk. nákladů,dota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 limitem min. 50 tis. Kč, max. 500 tis. Kč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edmět dot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občanská vybavenost, zařízení pro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volnočasové aktivity,související infrastruktura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69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9D13-F976-427E-B60C-39D8476FE7C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Dotační titul č. 5 - pokračová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362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 Přílohy žá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klad o vlastnictví majetku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části projektové dokumentace zahrnující průvodní zprávu, souhrnnou technickou zprávu a situaci stavby jako součást dokumentace akc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ředpokládaný rozpočet akce podrobněji členěný podle věcných položek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klady požadované podle zákona č. 183/2006 Sb., o územním plánování a stavebním řádu (stavební zákon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án práce obce na zapojení romské komunity (aktivity obce, podpora romských spolků, sdružení),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ce o využívání jiných dotačních programů pro práci s romskou komunitou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jekt na využití vybudovaného nebo rekonstruovaného objektu dokladující životnost ak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26C2-BF12-45CA-A320-3CBF2532639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Podpora úprav bývalých vojenských areálů 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k obecnímu využití: Dotační titul č.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362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ázev: Infrastruktura a rekonstrukce</a:t>
            </a:r>
            <a:r>
              <a:rPr b="1" lang="cs-CZ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íjemci: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ec, svazek ob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orma podpor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dotace do 75% celk. nákladů v daném roce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 limitem dotace min. 100 tis.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edmět dot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konstrukce převzatých kasárenských areálů, popřípadě dalších objektů a ploch pro nové civilní využití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konstrukci, příp. vybudování nové infrastruktury v kasárnách nebo vojenských areálech související s novým využitím bývalých vojenských objektů a ploch nebo související infrastruktury umožňující napojení na nadřazené sítě, obnovu místních komunikací, parkovacích ploch a veřejného osvětlení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řevzatých objektů, zařízení a pozemků pro účely rozvoje cestovního ruchu, rekreace a sport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vedení demolic devastovaných nebo nevyužitelných objektů bránících provedení revitalizace areálů a uvolněných plo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5E8F-5F0E-4C6E-9C24-87F5F489BAD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Dotační titul č. 1 - pokrač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362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 Přílohy žá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klad o vlastnictví majetku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části projektové dokumentace zahrnující průvodní zprávu, souhrnnou technickou zprávu a situaci stavby jako součást dokumentace akc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ředpokládaný rozpočet akce podrobněji členěný podle věcných položek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klady požadované podle zákona č. 183/2006 Sb., o územním plánování a stavebním řádu (stavební zákon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klad o souladu akce se schválenou územně plánovací dokumentaci, jde-li o stavby, terénní úpravy zařízení a udržovací práce podle § 103 stavebního zákona nevyžadující stavební povolení ani ohlášení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klady pro provedení demolic devastovaných nebo nevyužitelných objekt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2A9B-E466-4D94-A261-463DACF2DC4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18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Podpora úprav bývalých vojenských areálů 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k obecnímu využití: Dotační titul č.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Název: Aktualizace územně plánovací dokumentace ob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říjemci: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Forma podpory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dotace do 75% celk. nákladů v daném roce 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 limitem dotace min. 100 tis.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ředmět dotac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ktualizace rozpracované územně plánovací dokumentac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řízení změn platné územně plánovací dokumentac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řízení nové územně plánovací dokumentace – pouze v případě výrazně postižených obc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řílohy žád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klad o vlastnictví majetk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ádaný rozpočet akce podrobněji členěný podle věcných polož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2203-828B-445B-9ECB-1539256D4AA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000" y="980640"/>
            <a:ext cx="82184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Obnova obecního a krajského majetku postiženého živelní nebo jinou pohromou : Dotační titul č.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3628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říjemci: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ce, svazky obcí a kraje, pokud </a:t>
            </a:r>
            <a:r>
              <a:rPr b="1" lang="cs-CZ" sz="2000" spc="-1" strike="noStrike">
                <a:solidFill>
                  <a:srgbClr val="a50021"/>
                </a:solidFill>
                <a:latin typeface="Arial"/>
              </a:rPr>
              <a:t>byl</a:t>
            </a: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jejich území v důsledku živelné pohromy vyhlášen stav nebezpečí nebo nouzový sta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Forma podpory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cím a svazkům - dotace do 100% celk. nákladů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rajům – dotace do 50% celk. nákla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ředmět dotac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konstrukce nebo opravu majetku obce nebo svazu obcí poškozeného živelní nebo jinou pohromou, popř. na pořízení nového majetku plnícího tutéž funkci, kterou plnil majetek pohromou ničený (jde zejména o mosty, místní komunikace, veřejná prostranství, obecní stavby a zařízení včetně staveb a zařízení preventivní infrastruktur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zn.: Výzva k předkládání žádostí o poskytnutí dotací za škody vzniklé v roce 2008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byla ukončena ke dni 16. února 200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98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9C66-AC83-4C7D-B777-4141468E4A2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Dotační titul č. 1 - pokrač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3628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 Přílohy 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kumentace požadovaná podle zákona   č.183/2006 Sb., o územním plánování a stavebním řádu (stavební zákon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jektová dokumentace zahrnující průvodní zprávu, souhrnnou technickou zprávu a situaci stavby jako součást dokumentace akce včetně náležité fotodokumentace poškozeného majetku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ředpokládaný rozpočet akce podrobněji členěný podle věcných položek (položkový rozpočet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tvrzení na formuláři „Prohlášení krajského úřadu k žádosti obce (svazku obcí, kraje) o dotace financované z programu 217 117 „Obnova obecního a krajského majetku postiženého živelní nebo jinou pohromou“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1FF9-4065-4FF7-A9E6-AE0C70F036A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000" y="980640"/>
            <a:ext cx="82184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Obnova obecního a krajského majetku postiženého živelní nebo jinou pohromou : Dotační titul č.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3628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říjemci: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ce, svazky obcí a kraje postižené živelní nebo jinou pohromou, pokud </a:t>
            </a:r>
            <a:r>
              <a:rPr b="1" lang="cs-CZ" sz="2000" spc="-1" strike="noStrike">
                <a:solidFill>
                  <a:srgbClr val="a50021"/>
                </a:solidFill>
                <a:latin typeface="Arial"/>
              </a:rPr>
              <a:t>neby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ro jejich území v důsledku živelné pohromy vyhlášen stav nebezpečí nebo nouzový sta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Forma podpory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cím a svazkům - dotace do 80% celk. nákladů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rajům – dotace do 50% celk. nákla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ředmět dotac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konstrukce nebo opravu majetku obce nebo svazu obcí poškozeného živelní nebo jinou pohromou, popř. na pořízení nového majetku plnícího tutéž funkci, kterou plnil majetek pohromou ničený (jde zejména o mosty, místní komunikace, veřejná prostranství, obecní stavby a zařízení včetně staveb a zařízení preventivní infrastruktur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zn.: Výzva k předkládání žádostí o poskytnutí dotací za škody vzniklé v roce 2008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byla ukončena ke dni 16. února 200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98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9515-211C-4AD8-8F9F-F3BE80F8B35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Dotační titul č. 2 - pokrač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3628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 Přílohy 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kumentace požadovaná podle zákona   č.183/2006 Sb., o územním plánování a stavebním řádu (stavební zákon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jektová dokumentace zahrnující průvodní zprávu, souhrnnou technickou zprávu a situaci stavby jako součást dokumentace akce včetně náležité fotodokumentace poškozeného majetku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ředpokládaný rozpočet akce podrobněji členěný podle věcných položek (položkový rozpočet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tvrzení na formuláři „Prohlášení krajského úřadu k žádosti obce (svazku obcí, kraje) o dotace financované z programu 217 117 „Obnova obecního a krajského majetku postiženého živelní nebo jinou pohromou“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4DA7-4A54-43B7-AA26-D32CB5794A1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Program – Bezbariérové obce</a:t>
            </a: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0755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íjemci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obce,mě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orma podpor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dotace do 50 % celk. nákladů, dotace s limitem min. 100 tis. Kč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ředmět dot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bezbariérové vstupy do budov městských a obecních úřadů, DPS, výtahy,WC, transportní technologi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AD81-F1C7-4F7E-AA76-EE7B3EAE3E6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765000"/>
            <a:ext cx="878544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1. Finanční prostředky na rok 2009</a:t>
            </a:r>
            <a:r>
              <a:rPr b="1" lang="en-US" sz="44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79280" y="1844640"/>
          <a:ext cx="8785440" cy="4826160"/>
        </p:xfrm>
        <a:graphic>
          <a:graphicData uri="http://schemas.openxmlformats.org/drawingml/2006/table">
            <a:tbl>
              <a:tblPr/>
              <a:tblGrid>
                <a:gridCol w="5472360"/>
                <a:gridCol w="1657080"/>
                <a:gridCol w="165600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Podpora bydlení (MM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tečnost 2008 v tis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vrh rozpočtu 2009 v tis. Kč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a výstavby technické infrastruktu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 463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 0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a výstavby podporovaných byt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 127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 0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a regenerace panelových sídliš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 66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0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0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a oprav olověných rozvodů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632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0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kem Podpora bydl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0 884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0 0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2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A519-103C-43CD-8A38-87134B781A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Program Bezbariérové obce - pokrač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3628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 Přílohy žád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klad o vlastnictví majetk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ktová dokumentace zahrnující průvodní zprávu, souhrnnou technickou zprávu a situaci stavby jako součást dokumentace ak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ředpokládaný rozpočet akce podrobněji členěný podle věcných položek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klady požadované podle zákona č. 183/2006 Sb., o územním plánování a stavebním řádu (stavební zákon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klad o schválení bezbariérové trasy obce Řídícím výborem Národního rozvojového programu mobility pro všechn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válený rozpočet obce v době podání žádost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hlášení o počtu  sociálních nebo zdravotních zařízení zaměřených na péči o osoby s omezenou schopností ohybu a orientace v obc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9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46E8-F272-4485-99FD-73A43B0A659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87280" y="2781360"/>
            <a:ext cx="702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98560" y="5345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0086"/>
                </a:solidFill>
                <a:latin typeface="Arial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2000" y="224172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92000" y="519444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92000" y="443700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92000" y="299736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763640" y="5661000"/>
            <a:ext cx="676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92000" y="371628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392200" y="3232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4000" y="1628640"/>
            <a:ext cx="88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3880" indent="-62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0000"/>
                </a:solidFill>
                <a:latin typeface="Arial"/>
              </a:rPr>
              <a:t>Termíny MM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24000" y="2708280"/>
            <a:ext cx="820872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hlášení programů na rok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. listopadu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ín ukončení příjmu žádost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března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CEF0-727C-4B88-97FB-A2A5E64CF8F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87280" y="2781360"/>
            <a:ext cx="702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98560" y="5345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0086"/>
                </a:solidFill>
                <a:latin typeface="Arial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92000" y="224172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92000" y="519444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92000" y="443700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92000" y="299736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763640" y="5661000"/>
            <a:ext cx="676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92000" y="371628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392200" y="3232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2492280"/>
            <a:ext cx="88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3880" indent="-62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0000"/>
                </a:solidFill>
                <a:latin typeface="Arial"/>
              </a:rPr>
              <a:t>3. Dotace na územní plány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5BD2-8AE3-4352-B8D5-746086E4DCF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4762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50920" y="566100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4407e"/>
                </a:solidFill>
                <a:latin typeface="Arial"/>
                <a:ea typeface="ＭＳ Ｐゴシック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5280" y="1125360"/>
            <a:ext cx="8569440" cy="55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O podporu můžou požádat obce nad 500 obyvatel (včetně), které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plní alespoň jednu z následujících podmínek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obec leží v rozvojových oblastech a osách nebo ve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 specifických oblastech vymezených v Politice územního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 rozvoje ČR 2006, případně zpřesněných v zásadách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 územního rozvoje kraje, neb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minimálně 10 staveb pro bydlení na území obce se nachází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 ve stanoveném záplavovém území nebo jejich obytné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 místnosti určené pro bydlení byly po 1. lednu 1997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 zaplaveny a tyto stavby nemají dosud zajištěnou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 protipovodňovou ochranu, neb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obec musí do nového územního plánu zapracovat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 rozvojový záměr nadmístního významu obsažený v Politice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 územního rozvoje 2006 nebo v územně plánovací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  dokumentaci kraje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476280"/>
            <a:ext cx="914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800000"/>
                </a:solidFill>
                <a:latin typeface="Arial"/>
              </a:rPr>
              <a:t>Dotace na územní plán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0150-E1B3-4177-A5E9-E8A38E84DE1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981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50920" y="566100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4407e"/>
                </a:solidFill>
                <a:latin typeface="Arial"/>
                <a:ea typeface="ＭＳ Ｐゴシック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1341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Dotace na územní plán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5280" y="2349360"/>
            <a:ext cx="874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ximální výše dotace: 3 mil. K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díl spolufinancování: 1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um vyhlášení výzvy: 30.1.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4175-E3C5-4B3F-A9B3-E14966ED919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Děkuji za pozor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589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E427-484D-46F6-A655-3682CE8225E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79280" y="2421000"/>
            <a:ext cx="8964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dprogram zahrnuje věcné podmínky dané nařízením vlády č. 494/2000 Sb., o podmínkách poskytování dotací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e státního rozpočtu na podporu regenerace panelových sídliš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taci může získat obec, na jejímž území se nachází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panelové sídliště (nejméně 150 b.j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ec má schválený územní plán obce a projekt regenerac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panelového sídliš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tace může být poskytnuta až do výše 50 % rozpočtovýc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1557360"/>
            <a:ext cx="842472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0" r="12942" b="0"/>
          <a:stretch/>
        </p:blipFill>
        <p:spPr>
          <a:xfrm>
            <a:off x="0" y="0"/>
            <a:ext cx="9145440" cy="11253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79280" y="1197000"/>
            <a:ext cx="871380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rogram podpora bydlení (MMR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odpora regenerace  panelových sídliš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5F66-E7F4-418A-B946-EEC66CE7F93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79280" y="2205000"/>
            <a:ext cx="8964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odprogram stanovuje podmínky pro poskytování státních dotací na výstavbu dopravní a technické infrastruktury pro následnou výstavbu bytových domů, rodinných domů nebo bytových a rodinných domů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harakter a výše podpo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říjemce dotace je ob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aximálně 50 tis. Kč na následně vybudovanou bytovou jednot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aximálně 200 tis. EUR na 3 roky – dle pravidla de minimis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otace je poskytována 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zemní komun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odovodní sí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anal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0" t="0" r="12942" b="0"/>
          <a:stretch/>
        </p:blipFill>
        <p:spPr>
          <a:xfrm>
            <a:off x="0" y="0"/>
            <a:ext cx="9145440" cy="981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79280" y="1052640"/>
            <a:ext cx="871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rogram podpora bydlení (MMR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odpora výstavby technické infrastruktury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11D1-155F-4711-8986-679AE011909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79280" y="2205000"/>
            <a:ext cx="8785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stavba nájemných bytů pro osoby v nepříznivé sociální situaci, jejichž snížená soběstačnost je způsobená věkem nebo zdravotním stavem nebo pro osoby, které v důsledku nepříznivých životních okolností nemají přístup k bydlení a jsou schopné plnit povinnosti vyplývající z nájemného vztah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otační titu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ečovatelský byt (PČB) - výše dotace na jednu bytovou jednotku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600 – 650 tis.Kč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stupní byt (VB) - výše dotace na jednu bytovou jednotku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250 – 650 tis. Kč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harakter podpo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aximálně 200 tis. EUR na 3 roky – dle pravidla de mini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říjemce dotace: Ob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0" t="0" r="12942" b="0"/>
          <a:stretch/>
        </p:blipFill>
        <p:spPr>
          <a:xfrm>
            <a:off x="0" y="0"/>
            <a:ext cx="9145440" cy="1125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79280" y="1125360"/>
            <a:ext cx="8713800" cy="10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rogram podpora bydlení (MMR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odpora výstavby podporovaných byt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7113-C711-4DFB-9066-DF8A5F108A5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79280" y="2133720"/>
            <a:ext cx="8964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Snížení koncentrace olova v pitné vodě výměnou domovních olověných rozvodů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Příjemce dotace: </a:t>
            </a:r>
            <a:br>
              <a:rPr sz="2500"/>
            </a:b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Vlastník nebo spoluvlastník domu či bytu v objektu s domovními olověnými rozvod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Charakter dota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10 tisíc Kč na jednu bytovou jednotku, výměna </a:t>
            </a:r>
            <a:br>
              <a:rPr sz="2500"/>
            </a:b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  olověných rozvodů musí být provedena v celém domě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Dotace má neinvestiční charakt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Maximálně 200 tis. EUR na 3 roky – dle pravidla de</a:t>
            </a:r>
            <a:br>
              <a:rPr sz="2500"/>
            </a:br>
            <a:r>
              <a:rPr b="1" lang="cs-CZ" sz="2500" spc="-1" strike="noStrike">
                <a:solidFill>
                  <a:srgbClr val="000000"/>
                </a:solidFill>
                <a:latin typeface="Arial"/>
              </a:rPr>
              <a:t>  minimi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0" t="0" r="12942" b="0"/>
          <a:stretch/>
        </p:blipFill>
        <p:spPr>
          <a:xfrm>
            <a:off x="0" y="0"/>
            <a:ext cx="9145440" cy="907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79280" y="907920"/>
            <a:ext cx="8713800" cy="10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rogram podpora bydlení (MMR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Arial"/>
                <a:ea typeface="ＭＳ Ｐゴシック"/>
              </a:rPr>
              <a:t>Podpora oprav domovních olověných rozvod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1E3C-18D5-4699-8946-4614C301F27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187280" y="2781360"/>
            <a:ext cx="702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98560" y="53452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a0086"/>
                </a:solidFill>
                <a:latin typeface="Arial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92000" y="224172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92000" y="519444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92000" y="443700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92000" y="299736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63640" y="5661000"/>
            <a:ext cx="676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92000" y="3716280"/>
            <a:ext cx="179640" cy="1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92200" y="3232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628640"/>
            <a:ext cx="88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3880" indent="-62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0000"/>
                </a:solidFill>
                <a:latin typeface="Arial"/>
              </a:rPr>
              <a:t>Termíny MMR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0" t="0" r="12951" b="0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24000" y="2708280"/>
            <a:ext cx="820872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yhlášení programů na rok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8. listopadu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rmín pro předložení žádost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března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816D-5E15-4075-9327-57824F032C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12:07:40Z</dcterms:created>
  <dc:creator>Martina Přibylová</dc:creator>
  <dc:description/>
  <dc:language>en-US</dc:language>
  <cp:lastModifiedBy>Kamil Jan Svoboda</cp:lastModifiedBy>
  <cp:lastPrinted>2009-01-28T11:06:47Z</cp:lastPrinted>
  <dcterms:modified xsi:type="dcterms:W3CDTF">2009-05-11T21:15:10Z</dcterms:modified>
  <cp:revision>114</cp:revision>
  <dc:subject/>
  <dc:title>Snímek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81128759</vt:r8>
  </property>
  <property fmtid="{D5CDD505-2E9C-101B-9397-08002B2CF9AE}" pid="3" name="_AuthorEmail">
    <vt:lpwstr>Martina.Pribylova@mmr.cz</vt:lpwstr>
  </property>
  <property fmtid="{D5CDD505-2E9C-101B-9397-08002B2CF9AE}" pid="4" name="_AuthorEmailDisplayName">
    <vt:lpwstr>Přibylová Martina</vt:lpwstr>
  </property>
  <property fmtid="{D5CDD505-2E9C-101B-9397-08002B2CF9AE}" pid="5" name="_EmailSubject">
    <vt:lpwstr>Odborná komise pro rozvoj venkova-regionálka a bytovka</vt:lpwstr>
  </property>
  <property fmtid="{D5CDD505-2E9C-101B-9397-08002B2CF9AE}" pid="6" name="_PreviousAdHocReviewCycleID">
    <vt:r8>-1199961724</vt:r8>
  </property>
  <property fmtid="{D5CDD505-2E9C-101B-9397-08002B2CF9AE}" pid="7" name="_ReviewingToolsShownOnce">
    <vt:lpwstr/>
  </property>
</Properties>
</file>